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media/image11.png" ContentType="image/png"/>
  <Override PartName="/ppt/media/camera.wav" ContentType="audio/x-wav"/>
  <Override PartName="/ppt/media/image10.wmf" ContentType="image/x-wmf"/>
  <Override PartName="/ppt/media/image4.jpeg" ContentType="image/jpeg"/>
  <Override PartName="/ppt/media/image14.wmf" ContentType="image/x-wmf"/>
  <Override PartName="/ppt/media/image5.jpeg" ContentType="image/jpeg"/>
  <Override PartName="/ppt/media/image9.wmf" ContentType="image/x-wmf"/>
  <Override PartName="/ppt/media/bomb.wav" ContentType="audio/x-wav"/>
  <Override PartName="/ppt/media/image12.png" ContentType="image/png"/>
  <Override PartName="/ppt/media/image2.jpeg" ContentType="image/jpeg"/>
  <Override PartName="/ppt/media/image3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1.jpeg" ContentType="image/jpeg"/>
  <Override PartName="/ppt/media/image13.wmf" ContentType="image/x-wmf"/>
  <Override PartName="/ppt/media/whoosh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68936-3D46-44BD-9789-848387E61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38375-A04A-4619-BE6A-EFF479744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F59EA4-BEB6-4D8F-8765-1C4058BBB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FA3F25-6F9F-4370-9F15-CA0BB0712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C7FDC3-6D5D-460E-913F-C5643AE4F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B47DF2-C2DD-4EF2-BCCD-39A031EAF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FE0EAB-643E-42DA-99A3-DF5DA1902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DB09A0-E429-44D8-90EA-F6AE696B2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780B3D-41F7-487D-9B6D-D0BE8F908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7712A5-8292-4E1A-BBE6-6553DA696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B7D57A-90E6-43FE-A6B8-BB8095F62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49852C-EA0B-480F-B791-AF348AD48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3EB43-FC8E-4C4E-9B0F-D4810C8FC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2E4734-7062-4398-B59F-FE95C6952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D2C244-E7A7-4D36-A34D-F75804082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D7F897-4C0E-42DA-AE06-A8E4B496A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AAA226-FEAD-49D2-B8FD-5B35D9A64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DB553D-877B-4C6C-8454-88102A295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B8EFD7-1C9D-4C74-8AD8-E3F3F2431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1A832A-726D-4D7F-B1C6-2E064C927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5166BD-D4CF-4DE9-A14E-4E5DEC324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2C78AF-C9F7-4B75-91E6-BFB80DED4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84CCC2-39BC-4FDD-AAC8-92CD804FD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9386B-1EFF-425B-B1CA-BCA0FE84B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7C9E93-C2C0-4618-A4F9-6BC1FF2E2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FA44E8-E790-4ED1-9F58-0CC82FFE9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CBEE2D-0268-4B8A-B072-7E00DC6FE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0D810C-4814-4F4C-8153-944AA9C71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D490F4-F8FB-4E8C-8577-A45FE8C8E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E406A7-C999-4595-9597-EB7C57864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54BA93-C528-467C-BFBD-CFDFE683D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455847-1BC0-4B7D-9865-D31D656EF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7557AD-66C5-42B2-9022-E1A7161B2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A2861A-BD4D-4447-A6FB-0926679D2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B8F45-644C-4481-BE0B-997B77994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590098-5840-4B89-B200-94D954B7E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D548E6-E942-4B19-A952-80349FE14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B63020-8825-4CE7-A18C-7F4EB1225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36C4EB-D585-44EC-89DE-7D40D5842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D48B3C-A4F4-46F6-A5B7-B2DE9304D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DF056B-448D-42AB-9FA8-E4A5B26C8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2CB57D-48E6-4E24-8AC7-667581E66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EAAB4E-102B-4403-BE79-B516568CA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78DE7B-8207-49F5-AF4E-53AE4484E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8BE31C-A548-4DFC-8592-7DF7A1D7A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9D0CE-E4D2-4564-B9F4-E02EFE11D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A8DB7F-2AB6-4AAF-8109-064CDFAFD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DF93AF-03C3-47B7-A604-E27E63BDB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02C0E8-5C63-4D5C-8F08-094AD7592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7E7A6F-7062-4717-BCA3-2AC871441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BBE3E8-6E25-4E0C-BDAE-6679371C8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6508BB9-CAA9-4C80-89B5-4F093803A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164F844-EE4E-4A44-B221-57368C809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10782DC-0AE1-470A-A984-D099ECEA0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D112273-DC71-42C5-939E-C99BCF45C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56CE4DD-226D-4593-AE46-40BD39831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71962-B2BB-42E5-957C-A660E2CBF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BCE14EF-9972-4ED4-B6DF-6477980B8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EE5C527-0D3A-4AAE-82ED-0BA9A2DA4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61A253C-7257-45BC-A551-276E54E51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3DB5FB1-5C28-461B-9A0D-A77B657F4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CE14E3B-37D2-4E3C-A033-3D00FBCCB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3F8CD1F-ADD6-4640-9A49-58B5D90AA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06CD4CF-1953-4DCD-B829-849A84FD9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ED4553C-758A-4FC7-8ECE-1CE4FB2FB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D1030E1-50A6-44EC-8F3E-EB7B20595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253E2BD-FEC8-4DAF-A7AB-55351B4B7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C6187-9F58-4C50-B6EA-C1D244AD6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9CE13EB-AF45-4439-A074-C7140EC06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2B20995-EB5E-44D0-949E-5F05DB918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7576308-FF3A-4757-AA99-222443AFA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DA50E39-8579-4F48-A728-CEE36FBA0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7A4E0FF-0F89-41C6-B0DF-0FC818E67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2D41D52-0E66-438A-B82A-64F126A01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9508654-F3B3-44B8-8FE3-6EA2AD2E4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9D6E834-02C1-4E89-9599-B960C293D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25146EE-0EC2-45E5-8EFD-A84CE9836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99E34B0-E0D8-494B-8D0B-7EBA72DB4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A45DD-B27C-465E-9525-50E9E5DA1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B503A69-9F5C-466A-BAC7-5AE19CFFB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79D54AC-2422-48CF-BEBB-682840A42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84C8544-0B90-4116-8A7A-DED7F0DE2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7BC4D7A-DACB-45FA-ABC1-90C42FF0B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A80D8F0-A7D2-49C7-B195-08FBBDAA9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BD65299-A3A6-4DA7-A7B6-2E55D71DC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4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0F60580-7199-4EEE-B43F-7F855578A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5FFBB9F-1A38-49CA-A859-7C3B0A332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7B7D839-7479-4B25-B075-0EB45585A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3B3A33A-6552-4A73-910B-DC407D10D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C5813-417D-4F41-A07B-B7FB53414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CC03967-FE15-4B3C-AE4B-598443975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895A6-5345-4658-9B1F-A50D444AF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364E1-1096-4075-AF99-37CB83591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2D3EE-79A2-47EE-AF85-A30FDA1C4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56A4D-AC61-4DF0-B4D9-F1175A4A0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1F66B-E6DE-4067-AA22-9634CCB1F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7862F-36A5-4857-8109-E74A06DAE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192A9-B150-4117-9FEE-1DD7D39CF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7311E0-EC9D-4617-9063-665EC9BA5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937584-F580-43AD-B13D-EE5317828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55AC44-C2AE-40A8-9428-E84CFCB95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1EA67B-3DA3-4633-9E7E-32CB97265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B47DFC-B4B4-4B43-9A4C-EC921EBB1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23F99-F2F4-4CD3-A31C-4190BA547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D4A094-EA73-4A4F-8B04-49BE71990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0CF85B-3216-4DBA-B483-2CCA109D3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F03DDC-4C13-4602-BCF5-F32D4CD6C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BC1FC1-96F0-4115-92D8-FE7E2DC84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D68F50-6DE6-4943-AE7B-B17E4AF9A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DF21AE-052E-408A-96D6-D414117DF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B06739-E993-40D5-8F6C-3A0281AA9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42F8B4-64D2-480E-8A47-86D820022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50B955-F1A1-4AA1-8025-ACD5347C1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5012D4-2413-4986-8146-86A2CD1D4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13856-2039-43F2-B706-3EDB66021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105AEE-8914-4968-83E3-6A6C96AFD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C119F7-E6BE-4E0A-8214-531AD9A0A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C054F3-4C95-4825-9A20-4D55CE2B6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9FD416-B83F-4F78-8ECA-0032F53CC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B158B2-8066-49D8-85CB-214D3127C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8B3EBC-AA6F-4CFE-958B-2E873433A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3A7754-98FF-4D87-A8B2-74C3D2471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D2C549-F7E4-4313-882A-595C44755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51EB7A-2DA8-439E-8DBB-233D589AF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E411D4-A496-49FA-9C5A-2F25A3901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60E5C-F338-4883-B454-4CB445D53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908EC9-4005-45DE-9015-0BAEA8665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7616F2-1C30-49D7-A1A4-EF4A684C4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B67FD9-B5F8-454D-A92F-43CBCEA7B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2DC067-4D33-41CF-A274-BA5290EAB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C11F3F-DB2E-4C86-8DC4-D0928E07D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1D97CE-71AC-48D7-A102-3487B9D46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3A0763-60E4-4317-A5D3-6F28B42DD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3F0D5B-5F81-4522-B411-E220F37B4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ECF701-A241-449C-9C9A-E4691F10A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CA0A57-9ACD-4890-BB55-E8D6E07E2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6F3F9-DCA6-47FE-8419-ECE3EB8D2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896BD4-9BA7-41CE-B67C-AD6DE6CC5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25EF2D-6F9C-4FAA-846F-529A9061B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76BFF3-BA3A-4B1E-8B26-4CC3EB4C2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8B03E4-4531-4FF6-850E-12DFD8A4A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D12EEF-BEE8-4DD3-B44F-FEE662E23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111403-BA87-4F24-8BB1-95054A88C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790CD8-6F37-4C3C-B103-839A73DAB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0BE644-E487-4F86-94C6-9FF36ECA2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EE1210-ECD4-4644-95F5-F1380EE35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FFE169-AD18-498E-B23A-6CFA2A3F2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4BB88-C7D9-4D45-B504-C068BAA12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87767A-8B0F-4684-987C-CFB51C308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0E85E8-84FA-4766-81C8-DF46DFE15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9FC3F4-B657-4F63-A032-19B001495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B47B10-6717-4291-8414-6D171649B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C182F1-560B-4052-805F-A046C5497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5D5F2E-F272-4796-96C4-C727AE029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F9FB38-7013-451D-B408-B74AB0196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6BCFD4-9AAF-40E7-970B-5D68129A6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90A062-133A-45DD-B97D-5571AD331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0D41C2-5982-4539-A822-D524CEEFA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C4680-F63F-4227-AF1F-32A943728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A9E200-A09D-405F-B516-8428DA25B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EF11E9-8243-4AA5-A24D-753892BEF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86CAE1-0900-4173-919B-D28256CE8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3BDC16-60F7-4665-B06B-2C4C506A8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0C741C-05DA-47CA-AE34-A305B8ADC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32FC01-104F-4A2F-B582-CE4A837C1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250310-503A-4041-A646-DA4464889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2FE275-646B-4C94-9BAF-29F2423D3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0DECB6-77DA-41D9-8CF7-F674A7EED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CC2170-FDBC-4382-A4BC-6D4D11DFE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FB851-F1E1-4EB4-B7B4-095FF2759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CED3B9-2C27-4704-A702-5F093A918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A1DE08-AF16-4B54-A20C-123D0132B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B48031-0967-4343-9A02-2D6037CC6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BE2904-4DAB-4E91-ADBA-5F63C0E20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8EBF00-04E7-496D-9B77-E486E76F3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7DD798-A928-4808-9B38-C6C70EFE3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2F8CD0-6269-4DFD-BC87-066749F84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510DFA-AE65-47C5-9533-77A380522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65AF4A-C8EB-46A4-8F92-1F08B7B91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975E93-92CA-4110-AC3A-18280FB1D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EF7A2-3B54-4986-B516-3FBFD1C45F27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2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663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5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666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 type="dt" idx="28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 type="ftr" idx="29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5"/>
          <p:cNvSpPr>
            <a:spLocks noGrp="1"/>
          </p:cNvSpPr>
          <p:nvPr>
            <p:ph type="sldNum" idx="30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A91F4-3CEE-499C-8F16-5FFCAA66812B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9" name="Group 2"/>
          <p:cNvGrpSpPr/>
          <p:nvPr/>
        </p:nvGrpSpPr>
        <p:grpSpPr>
          <a:xfrm>
            <a:off x="2010960" y="245520"/>
            <a:ext cx="6895800" cy="5451840"/>
            <a:chOff x="2010960" y="245520"/>
            <a:chExt cx="6895800" cy="5451840"/>
          </a:xfrm>
        </p:grpSpPr>
        <p:grpSp>
          <p:nvGrpSpPr>
            <p:cNvPr id="710" name="Group 3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711" name="Oval 4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" name="Oval 5"/>
              <p:cNvSpPr/>
              <p:nvPr/>
            </p:nvSpPr>
            <p:spPr>
              <a:xfrm>
                <a:off x="3822840" y="1265760"/>
                <a:ext cx="228960" cy="1317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3" name="Group 6"/>
            <p:cNvGrpSpPr/>
            <p:nvPr/>
          </p:nvGrpSpPr>
          <p:grpSpPr>
            <a:xfrm>
              <a:off x="2010960" y="245520"/>
              <a:ext cx="6895800" cy="5451840"/>
              <a:chOff x="2010960" y="245520"/>
              <a:chExt cx="6895800" cy="5451840"/>
            </a:xfrm>
          </p:grpSpPr>
          <p:grpSp>
            <p:nvGrpSpPr>
              <p:cNvPr id="714" name="Group 7"/>
              <p:cNvGrpSpPr/>
              <p:nvPr/>
            </p:nvGrpSpPr>
            <p:grpSpPr>
              <a:xfrm>
                <a:off x="2010960" y="245520"/>
                <a:ext cx="6891120" cy="5451840"/>
                <a:chOff x="2010960" y="245520"/>
                <a:chExt cx="6891120" cy="5451840"/>
              </a:xfrm>
            </p:grpSpPr>
            <p:grpSp>
              <p:nvGrpSpPr>
                <p:cNvPr id="715" name="Group 8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716" name="Oval 9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7" name="Oval 10"/>
                  <p:cNvSpPr/>
                  <p:nvPr/>
                </p:nvSpPr>
                <p:spPr>
                  <a:xfrm>
                    <a:off x="5109840" y="2235600"/>
                    <a:ext cx="71352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18" name="Group 11"/>
                <p:cNvGrpSpPr/>
                <p:nvPr/>
              </p:nvGrpSpPr>
              <p:grpSpPr>
                <a:xfrm>
                  <a:off x="2010960" y="245520"/>
                  <a:ext cx="6891120" cy="5451840"/>
                  <a:chOff x="2010960" y="245520"/>
                  <a:chExt cx="6891120" cy="5451840"/>
                </a:xfrm>
              </p:grpSpPr>
              <p:grpSp>
                <p:nvGrpSpPr>
                  <p:cNvPr id="719" name="Group 12"/>
                  <p:cNvGrpSpPr/>
                  <p:nvPr/>
                </p:nvGrpSpPr>
                <p:grpSpPr>
                  <a:xfrm>
                    <a:off x="5762160" y="2322360"/>
                    <a:ext cx="2558160" cy="2742840"/>
                    <a:chOff x="5762160" y="2322360"/>
                    <a:chExt cx="2558160" cy="2742840"/>
                  </a:xfrm>
                </p:grpSpPr>
                <p:sp>
                  <p:nvSpPr>
                    <p:cNvPr id="720" name="Freeform 13"/>
                    <p:cNvSpPr/>
                    <p:nvPr/>
                  </p:nvSpPr>
                  <p:spPr>
                    <a:xfrm rot="2711400">
                      <a:off x="5584680" y="3019680"/>
                      <a:ext cx="2126520" cy="384480"/>
                    </a:xfrm>
                    <a:custGeom>
                      <a:avLst/>
                      <a:gdLst>
                        <a:gd name="textAreaLeft" fmla="*/ 0 w 2126520"/>
                        <a:gd name="textAreaRight" fmla="*/ 2126880 w 2126520"/>
                        <a:gd name="textAreaTop" fmla="*/ 0 h 384480"/>
                        <a:gd name="textAreaBottom" fmla="*/ 384840 h 384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1" name="Freeform 14"/>
                    <p:cNvSpPr/>
                    <p:nvPr/>
                  </p:nvSpPr>
                  <p:spPr>
                    <a:xfrm rot="2711400">
                      <a:off x="7134480" y="4145760"/>
                      <a:ext cx="1139760" cy="604080"/>
                    </a:xfrm>
                    <a:custGeom>
                      <a:avLst/>
                      <a:gdLst>
                        <a:gd name="textAreaLeft" fmla="*/ 0 w 1139760"/>
                        <a:gd name="textAreaRight" fmla="*/ 1140120 w 1139760"/>
                        <a:gd name="textAreaTop" fmla="*/ 0 h 604080"/>
                        <a:gd name="textAreaBottom" fmla="*/ 604440 h 604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22" name="Group 15"/>
                  <p:cNvGrpSpPr/>
                  <p:nvPr/>
                </p:nvGrpSpPr>
                <p:grpSpPr>
                  <a:xfrm>
                    <a:off x="5787720" y="2148120"/>
                    <a:ext cx="3040200" cy="2530080"/>
                    <a:chOff x="5787720" y="2148120"/>
                    <a:chExt cx="3040200" cy="2530080"/>
                  </a:xfrm>
                </p:grpSpPr>
                <p:sp>
                  <p:nvSpPr>
                    <p:cNvPr id="723" name="Freeform 16"/>
                    <p:cNvSpPr/>
                    <p:nvPr/>
                  </p:nvSpPr>
                  <p:spPr>
                    <a:xfrm rot="2103600">
                      <a:off x="5707080" y="2751480"/>
                      <a:ext cx="2236680" cy="426600"/>
                    </a:xfrm>
                    <a:custGeom>
                      <a:avLst/>
                      <a:gdLst>
                        <a:gd name="textAreaLeft" fmla="*/ 0 w 2236680"/>
                        <a:gd name="textAreaRight" fmla="*/ 2237040 w 2236680"/>
                        <a:gd name="textAreaTop" fmla="*/ 0 h 426600"/>
                        <a:gd name="textAreaBottom" fmla="*/ 426960 h 4266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4" name="Freeform 17"/>
                    <p:cNvSpPr/>
                    <p:nvPr/>
                  </p:nvSpPr>
                  <p:spPr>
                    <a:xfrm rot="2103600">
                      <a:off x="7541640" y="3721680"/>
                      <a:ext cx="1202040" cy="672120"/>
                    </a:xfrm>
                    <a:custGeom>
                      <a:avLst/>
                      <a:gdLst>
                        <a:gd name="textAreaLeft" fmla="*/ 0 w 1202040"/>
                        <a:gd name="textAreaRight" fmla="*/ 1202400 w 1202040"/>
                        <a:gd name="textAreaTop" fmla="*/ 0 h 672120"/>
                        <a:gd name="textAreaBottom" fmla="*/ 672480 h 6721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25" name="Group 18"/>
                  <p:cNvGrpSpPr/>
                  <p:nvPr/>
                </p:nvGrpSpPr>
                <p:grpSpPr>
                  <a:xfrm>
                    <a:off x="5775840" y="2065680"/>
                    <a:ext cx="3096720" cy="1992240"/>
                    <a:chOff x="5775840" y="2065680"/>
                    <a:chExt cx="3096720" cy="1992240"/>
                  </a:xfrm>
                </p:grpSpPr>
                <p:sp>
                  <p:nvSpPr>
                    <p:cNvPr id="726" name="Freeform 19"/>
                    <p:cNvSpPr/>
                    <p:nvPr/>
                  </p:nvSpPr>
                  <p:spPr>
                    <a:xfrm rot="1582800">
                      <a:off x="5747400" y="2521440"/>
                      <a:ext cx="2139480" cy="374400"/>
                    </a:xfrm>
                    <a:custGeom>
                      <a:avLst/>
                      <a:gdLst>
                        <a:gd name="textAreaLeft" fmla="*/ 0 w 2139480"/>
                        <a:gd name="textAreaRight" fmla="*/ 2139840 w 2139480"/>
                        <a:gd name="textAreaTop" fmla="*/ 0 h 374400"/>
                        <a:gd name="textAreaBottom" fmla="*/ 374760 h 3744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7" name="Freeform 20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>
                        <a:gd name="textAreaLeft" fmla="*/ 0 w 1149120"/>
                        <a:gd name="textAreaRight" fmla="*/ 1149480 w 1149120"/>
                        <a:gd name="textAreaTop" fmla="*/ 0 h 586800"/>
                        <a:gd name="textAreaBottom" fmla="*/ 587160 h 5868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28" name="Group 21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729" name="Freeform 22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>
                        <a:gd name="textAreaLeft" fmla="*/ 0 w 2067480"/>
                        <a:gd name="textAreaRight" fmla="*/ 2067840 w 2067480"/>
                        <a:gd name="textAreaTop" fmla="*/ 0 h 412920"/>
                        <a:gd name="textAreaBottom" fmla="*/ 413280 h 4129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0" name="Freeform 23"/>
                    <p:cNvSpPr/>
                    <p:nvPr/>
                  </p:nvSpPr>
                  <p:spPr>
                    <a:xfrm rot="1080000">
                      <a:off x="7718040" y="2772720"/>
                      <a:ext cx="1110600" cy="649800"/>
                    </a:xfrm>
                    <a:custGeom>
                      <a:avLst/>
                      <a:gdLst>
                        <a:gd name="textAreaLeft" fmla="*/ 0 w 1110600"/>
                        <a:gd name="textAreaRight" fmla="*/ 1110960 w 1110600"/>
                        <a:gd name="textAreaTop" fmla="*/ 0 h 649800"/>
                        <a:gd name="textAreaBottom" fmla="*/ 650160 h 6498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31" name="Group 24"/>
                  <p:cNvGrpSpPr/>
                  <p:nvPr/>
                </p:nvGrpSpPr>
                <p:grpSpPr>
                  <a:xfrm>
                    <a:off x="5806080" y="1879560"/>
                    <a:ext cx="2940120" cy="1002240"/>
                    <a:chOff x="5806080" y="1879560"/>
                    <a:chExt cx="2940120" cy="1002240"/>
                  </a:xfrm>
                </p:grpSpPr>
                <p:sp>
                  <p:nvSpPr>
                    <p:cNvPr id="732" name="Freeform 25"/>
                    <p:cNvSpPr/>
                    <p:nvPr/>
                  </p:nvSpPr>
                  <p:spPr>
                    <a:xfrm rot="463200">
                      <a:off x="5823000" y="2005560"/>
                      <a:ext cx="1905840" cy="384480"/>
                    </a:xfrm>
                    <a:custGeom>
                      <a:avLst/>
                      <a:gdLst>
                        <a:gd name="textAreaLeft" fmla="*/ 0 w 1905840"/>
                        <a:gd name="textAreaRight" fmla="*/ 1906200 w 1905840"/>
                        <a:gd name="textAreaTop" fmla="*/ 0 h 384480"/>
                        <a:gd name="textAreaBottom" fmla="*/ 384840 h 384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3" name="Freeform 26"/>
                    <p:cNvSpPr/>
                    <p:nvPr/>
                  </p:nvSpPr>
                  <p:spPr>
                    <a:xfrm rot="463200">
                      <a:off x="7686360" y="2212920"/>
                      <a:ext cx="1023840" cy="602640"/>
                    </a:xfrm>
                    <a:custGeom>
                      <a:avLst/>
                      <a:gdLst>
                        <a:gd name="textAreaLeft" fmla="*/ 0 w 1023840"/>
                        <a:gd name="textAreaRight" fmla="*/ 1024200 w 1023840"/>
                        <a:gd name="textAreaTop" fmla="*/ 0 h 602640"/>
                        <a:gd name="textAreaBottom" fmla="*/ 602640 h 6026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34" name="Group 27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735" name="Freeform 28"/>
                    <p:cNvSpPr/>
                    <p:nvPr/>
                  </p:nvSpPr>
                  <p:spPr>
                    <a:xfrm rot="21515400">
                      <a:off x="5854320" y="1852560"/>
                      <a:ext cx="1730880" cy="269280"/>
                    </a:xfrm>
                    <a:custGeom>
                      <a:avLst/>
                      <a:gdLst>
                        <a:gd name="textAreaLeft" fmla="*/ 0 w 1730880"/>
                        <a:gd name="textAreaRight" fmla="*/ 1731240 w 1730880"/>
                        <a:gd name="textAreaTop" fmla="*/ 0 h 269280"/>
                        <a:gd name="textAreaBottom" fmla="*/ 269640 h 2692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6" name="Freeform 29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>
                        <a:gd name="textAreaLeft" fmla="*/ 0 w 929520"/>
                        <a:gd name="textAreaRight" fmla="*/ 929880 w 929520"/>
                        <a:gd name="textAreaTop" fmla="*/ 0 h 423000"/>
                        <a:gd name="textAreaBottom" fmla="*/ 423360 h 4230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37" name="Group 30"/>
                  <p:cNvGrpSpPr/>
                  <p:nvPr/>
                </p:nvGrpSpPr>
                <p:grpSpPr>
                  <a:xfrm>
                    <a:off x="5788440" y="1303920"/>
                    <a:ext cx="2364120" cy="786960"/>
                    <a:chOff x="5788440" y="1303920"/>
                    <a:chExt cx="2364120" cy="786960"/>
                  </a:xfrm>
                </p:grpSpPr>
                <p:sp>
                  <p:nvSpPr>
                    <p:cNvPr id="738" name="Freeform 31"/>
                    <p:cNvSpPr/>
                    <p:nvPr/>
                  </p:nvSpPr>
                  <p:spPr>
                    <a:xfrm rot="20797200">
                      <a:off x="5798520" y="1653120"/>
                      <a:ext cx="1519200" cy="265320"/>
                    </a:xfrm>
                    <a:custGeom>
                      <a:avLst/>
                      <a:gdLst>
                        <a:gd name="textAreaLeft" fmla="*/ 0 w 1519200"/>
                        <a:gd name="textAreaRight" fmla="*/ 1519560 w 1519200"/>
                        <a:gd name="textAreaTop" fmla="*/ 0 h 265320"/>
                        <a:gd name="textAreaBottom" fmla="*/ 265680 h 2653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9" name="Freeform 32"/>
                    <p:cNvSpPr/>
                    <p:nvPr/>
                  </p:nvSpPr>
                  <p:spPr>
                    <a:xfrm rot="20797200">
                      <a:off x="7298640" y="1392480"/>
                      <a:ext cx="816480" cy="416160"/>
                    </a:xfrm>
                    <a:custGeom>
                      <a:avLst/>
                      <a:gdLst>
                        <a:gd name="textAreaLeft" fmla="*/ 0 w 816480"/>
                        <a:gd name="textAreaRight" fmla="*/ 816840 w 816480"/>
                        <a:gd name="textAreaTop" fmla="*/ 0 h 416160"/>
                        <a:gd name="textAreaBottom" fmla="*/ 416520 h 4161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40" name="Group 33"/>
                  <p:cNvGrpSpPr/>
                  <p:nvPr/>
                </p:nvGrpSpPr>
                <p:grpSpPr>
                  <a:xfrm>
                    <a:off x="2646360" y="2473920"/>
                    <a:ext cx="2556720" cy="2741760"/>
                    <a:chOff x="2646360" y="2473920"/>
                    <a:chExt cx="2556720" cy="2741760"/>
                  </a:xfrm>
                </p:grpSpPr>
                <p:sp>
                  <p:nvSpPr>
                    <p:cNvPr id="741" name="Freeform 34"/>
                    <p:cNvSpPr/>
                    <p:nvPr/>
                  </p:nvSpPr>
                  <p:spPr>
                    <a:xfrm flipH="1" rot="18888600">
                      <a:off x="3253680" y="3170880"/>
                      <a:ext cx="2125800" cy="385560"/>
                    </a:xfrm>
                    <a:custGeom>
                      <a:avLst/>
                      <a:gdLst>
                        <a:gd name="textAreaLeft" fmla="*/ -360 w 2125800"/>
                        <a:gd name="textAreaRight" fmla="*/ 2125800 w 2125800"/>
                        <a:gd name="textAreaTop" fmla="*/ 0 h 385560"/>
                        <a:gd name="textAreaBottom" fmla="*/ 385920 h 3855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2" name="Freeform 35"/>
                    <p:cNvSpPr/>
                    <p:nvPr/>
                  </p:nvSpPr>
                  <p:spPr>
                    <a:xfrm flipH="1" rot="18888600">
                      <a:off x="2691360" y="4295520"/>
                      <a:ext cx="1141560" cy="604080"/>
                    </a:xfrm>
                    <a:custGeom>
                      <a:avLst/>
                      <a:gdLst>
                        <a:gd name="textAreaLeft" fmla="*/ -360 w 1141560"/>
                        <a:gd name="textAreaRight" fmla="*/ 1141560 w 1141560"/>
                        <a:gd name="textAreaTop" fmla="*/ 0 h 604080"/>
                        <a:gd name="textAreaBottom" fmla="*/ 604440 h 604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43" name="Group 36"/>
                  <p:cNvGrpSpPr/>
                  <p:nvPr/>
                </p:nvGrpSpPr>
                <p:grpSpPr>
                  <a:xfrm>
                    <a:off x="2085480" y="2366280"/>
                    <a:ext cx="3040200" cy="2530800"/>
                    <a:chOff x="2085480" y="2366280"/>
                    <a:chExt cx="3040200" cy="2530800"/>
                  </a:xfrm>
                </p:grpSpPr>
                <p:sp>
                  <p:nvSpPr>
                    <p:cNvPr id="744" name="Freeform 37"/>
                    <p:cNvSpPr/>
                    <p:nvPr/>
                  </p:nvSpPr>
                  <p:spPr>
                    <a:xfrm flipH="1" rot="19496400">
                      <a:off x="2967840" y="2970000"/>
                      <a:ext cx="2237400" cy="428400"/>
                    </a:xfrm>
                    <a:custGeom>
                      <a:avLst/>
                      <a:gdLst>
                        <a:gd name="textAreaLeft" fmla="*/ -360 w 2237400"/>
                        <a:gd name="textAreaRight" fmla="*/ 2237400 w 2237400"/>
                        <a:gd name="textAreaTop" fmla="*/ 0 h 428400"/>
                        <a:gd name="textAreaBottom" fmla="*/ 428760 h 4284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5" name="Freeform 38"/>
                    <p:cNvSpPr/>
                    <p:nvPr/>
                  </p:nvSpPr>
                  <p:spPr>
                    <a:xfrm flipH="1" rot="19496400">
                      <a:off x="2168640" y="3940920"/>
                      <a:ext cx="1202760" cy="671760"/>
                    </a:xfrm>
                    <a:custGeom>
                      <a:avLst/>
                      <a:gdLst>
                        <a:gd name="textAreaLeft" fmla="*/ -360 w 1202760"/>
                        <a:gd name="textAreaRight" fmla="*/ 1202760 w 1202760"/>
                        <a:gd name="textAreaTop" fmla="*/ 0 h 671760"/>
                        <a:gd name="textAreaBottom" fmla="*/ 672120 h 6717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46" name="Group 39"/>
                  <p:cNvGrpSpPr/>
                  <p:nvPr/>
                </p:nvGrpSpPr>
                <p:grpSpPr>
                  <a:xfrm>
                    <a:off x="2040480" y="2283480"/>
                    <a:ext cx="3097440" cy="1992240"/>
                    <a:chOff x="2040480" y="2283480"/>
                    <a:chExt cx="3097440" cy="1992240"/>
                  </a:xfrm>
                </p:grpSpPr>
                <p:sp>
                  <p:nvSpPr>
                    <p:cNvPr id="747" name="Freeform 40"/>
                    <p:cNvSpPr/>
                    <p:nvPr/>
                  </p:nvSpPr>
                  <p:spPr>
                    <a:xfrm flipH="1" rot="20017200">
                      <a:off x="3025080" y="2739240"/>
                      <a:ext cx="2140560" cy="375120"/>
                    </a:xfrm>
                    <a:custGeom>
                      <a:avLst/>
                      <a:gdLst>
                        <a:gd name="textAreaLeft" fmla="*/ 360 w 2140560"/>
                        <a:gd name="textAreaRight" fmla="*/ 2141280 w 2140560"/>
                        <a:gd name="textAreaTop" fmla="*/ 0 h 375120"/>
                        <a:gd name="textAreaBottom" fmla="*/ 375480 h 3751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8" name="Freeform 41"/>
                    <p:cNvSpPr/>
                    <p:nvPr/>
                  </p:nvSpPr>
                  <p:spPr>
                    <a:xfrm flipH="1" rot="20017200">
                      <a:off x="2111040" y="3463560"/>
                      <a:ext cx="1149840" cy="587160"/>
                    </a:xfrm>
                    <a:custGeom>
                      <a:avLst/>
                      <a:gdLst>
                        <a:gd name="textAreaLeft" fmla="*/ 360 w 1149840"/>
                        <a:gd name="textAreaRight" fmla="*/ 1150560 w 1149840"/>
                        <a:gd name="textAreaTop" fmla="*/ 0 h 587160"/>
                        <a:gd name="textAreaBottom" fmla="*/ 587520 h 5871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49" name="Group 42"/>
                  <p:cNvGrpSpPr/>
                  <p:nvPr/>
                </p:nvGrpSpPr>
                <p:grpSpPr>
                  <a:xfrm>
                    <a:off x="2010960" y="2188080"/>
                    <a:ext cx="3134160" cy="1608480"/>
                    <a:chOff x="2010960" y="2188080"/>
                    <a:chExt cx="3134160" cy="1608480"/>
                  </a:xfrm>
                </p:grpSpPr>
                <p:sp>
                  <p:nvSpPr>
                    <p:cNvPr id="750" name="Freeform 43"/>
                    <p:cNvSpPr/>
                    <p:nvPr/>
                  </p:nvSpPr>
                  <p:spPr>
                    <a:xfrm flipH="1" rot="20520000">
                      <a:off x="3062880" y="2497320"/>
                      <a:ext cx="2068560" cy="412560"/>
                    </a:xfrm>
                    <a:custGeom>
                      <a:avLst/>
                      <a:gdLst>
                        <a:gd name="textAreaLeft" fmla="*/ 360 w 2068560"/>
                        <a:gd name="textAreaRight" fmla="*/ 2069280 w 2068560"/>
                        <a:gd name="textAreaTop" fmla="*/ 0 h 412560"/>
                        <a:gd name="textAreaBottom" fmla="*/ 412920 h 4125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51" name="Freeform 44"/>
                    <p:cNvSpPr/>
                    <p:nvPr/>
                  </p:nvSpPr>
                  <p:spPr>
                    <a:xfrm flipH="1" rot="20520000">
                      <a:off x="2084040" y="2990520"/>
                      <a:ext cx="1111320" cy="649800"/>
                    </a:xfrm>
                    <a:custGeom>
                      <a:avLst/>
                      <a:gdLst>
                        <a:gd name="textAreaLeft" fmla="*/ -360 w 1111320"/>
                        <a:gd name="textAreaRight" fmla="*/ 1111320 w 1111320"/>
                        <a:gd name="textAreaTop" fmla="*/ 0 h 649800"/>
                        <a:gd name="textAreaBottom" fmla="*/ 650160 h 6498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52" name="Group 45"/>
                  <p:cNvGrpSpPr/>
                  <p:nvPr/>
                </p:nvGrpSpPr>
                <p:grpSpPr>
                  <a:xfrm>
                    <a:off x="2166840" y="2097720"/>
                    <a:ext cx="2940840" cy="1002600"/>
                    <a:chOff x="2166840" y="2097720"/>
                    <a:chExt cx="2940840" cy="1002600"/>
                  </a:xfrm>
                </p:grpSpPr>
                <p:sp>
                  <p:nvSpPr>
                    <p:cNvPr id="753" name="Freeform 46"/>
                    <p:cNvSpPr/>
                    <p:nvPr/>
                  </p:nvSpPr>
                  <p:spPr>
                    <a:xfrm flipH="1" rot="21136800">
                      <a:off x="3184560" y="2223720"/>
                      <a:ext cx="1905840" cy="385200"/>
                    </a:xfrm>
                    <a:custGeom>
                      <a:avLst/>
                      <a:gdLst>
                        <a:gd name="textAreaLeft" fmla="*/ 360 w 1905840"/>
                        <a:gd name="textAreaRight" fmla="*/ 1906560 w 1905840"/>
                        <a:gd name="textAreaTop" fmla="*/ 0 h 385200"/>
                        <a:gd name="textAreaBottom" fmla="*/ 385560 h 3852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54" name="Freeform 47"/>
                    <p:cNvSpPr/>
                    <p:nvPr/>
                  </p:nvSpPr>
                  <p:spPr>
                    <a:xfrm flipH="1" rot="21136800">
                      <a:off x="2202480" y="2430000"/>
                      <a:ext cx="1023480" cy="604080"/>
                    </a:xfrm>
                    <a:custGeom>
                      <a:avLst/>
                      <a:gdLst>
                        <a:gd name="textAreaLeft" fmla="*/ -360 w 1023480"/>
                        <a:gd name="textAreaRight" fmla="*/ 1023480 w 1023480"/>
                        <a:gd name="textAreaTop" fmla="*/ 0 h 604080"/>
                        <a:gd name="textAreaBottom" fmla="*/ 604440 h 604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55" name="Group 48"/>
                  <p:cNvGrpSpPr/>
                  <p:nvPr/>
                </p:nvGrpSpPr>
                <p:grpSpPr>
                  <a:xfrm>
                    <a:off x="2403360" y="2033640"/>
                    <a:ext cx="2658960" cy="446040"/>
                    <a:chOff x="2403360" y="2033640"/>
                    <a:chExt cx="2658960" cy="446040"/>
                  </a:xfrm>
                </p:grpSpPr>
                <p:sp>
                  <p:nvSpPr>
                    <p:cNvPr id="756" name="Freeform 49"/>
                    <p:cNvSpPr/>
                    <p:nvPr/>
                  </p:nvSpPr>
                  <p:spPr>
                    <a:xfrm flipH="1" rot="84600">
                      <a:off x="3327120" y="2070720"/>
                      <a:ext cx="1731600" cy="268560"/>
                    </a:xfrm>
                    <a:custGeom>
                      <a:avLst/>
                      <a:gdLst>
                        <a:gd name="textAreaLeft" fmla="*/ 360 w 1731600"/>
                        <a:gd name="textAreaRight" fmla="*/ 1732320 w 1731600"/>
                        <a:gd name="textAreaTop" fmla="*/ 0 h 268560"/>
                        <a:gd name="textAreaBottom" fmla="*/ 268920 h 2685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57" name="Freeform 50"/>
                    <p:cNvSpPr/>
                    <p:nvPr/>
                  </p:nvSpPr>
                  <p:spPr>
                    <a:xfrm flipH="1" rot="84600">
                      <a:off x="2408040" y="2044800"/>
                      <a:ext cx="929880" cy="423000"/>
                    </a:xfrm>
                    <a:custGeom>
                      <a:avLst/>
                      <a:gdLst>
                        <a:gd name="textAreaLeft" fmla="*/ -360 w 929880"/>
                        <a:gd name="textAreaRight" fmla="*/ 929880 w 929880"/>
                        <a:gd name="textAreaTop" fmla="*/ 0 h 423000"/>
                        <a:gd name="textAreaBottom" fmla="*/ 423360 h 4230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58" name="Group 51"/>
                  <p:cNvGrpSpPr/>
                  <p:nvPr/>
                </p:nvGrpSpPr>
                <p:grpSpPr>
                  <a:xfrm>
                    <a:off x="2761200" y="1522440"/>
                    <a:ext cx="2364120" cy="787320"/>
                    <a:chOff x="2761200" y="1522440"/>
                    <a:chExt cx="2364120" cy="787320"/>
                  </a:xfrm>
                </p:grpSpPr>
                <p:sp>
                  <p:nvSpPr>
                    <p:cNvPr id="759" name="Freeform 52"/>
                    <p:cNvSpPr/>
                    <p:nvPr/>
                  </p:nvSpPr>
                  <p:spPr>
                    <a:xfrm flipH="1" rot="802800">
                      <a:off x="3595680" y="1872360"/>
                      <a:ext cx="1519200" cy="264960"/>
                    </a:xfrm>
                    <a:custGeom>
                      <a:avLst/>
                      <a:gdLst>
                        <a:gd name="textAreaLeft" fmla="*/ 360 w 1519200"/>
                        <a:gd name="textAreaRight" fmla="*/ 1519920 w 151920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0" name="Freeform 53"/>
                    <p:cNvSpPr/>
                    <p:nvPr/>
                  </p:nvSpPr>
                  <p:spPr>
                    <a:xfrm flipH="1" rot="802800">
                      <a:off x="2798280" y="1611000"/>
                      <a:ext cx="816120" cy="417960"/>
                    </a:xfrm>
                    <a:custGeom>
                      <a:avLst/>
                      <a:gdLst>
                        <a:gd name="textAreaLeft" fmla="*/ -360 w 816120"/>
                        <a:gd name="textAreaRight" fmla="*/ 816120 w 816120"/>
                        <a:gd name="textAreaTop" fmla="*/ 0 h 417960"/>
                        <a:gd name="textAreaBottom" fmla="*/ 418320 h 4179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61" name="Group 54"/>
                  <p:cNvGrpSpPr/>
                  <p:nvPr/>
                </p:nvGrpSpPr>
                <p:grpSpPr>
                  <a:xfrm>
                    <a:off x="2887200" y="1236600"/>
                    <a:ext cx="2325240" cy="1083960"/>
                    <a:chOff x="2887200" y="1236600"/>
                    <a:chExt cx="2325240" cy="1083960"/>
                  </a:xfrm>
                </p:grpSpPr>
                <p:sp>
                  <p:nvSpPr>
                    <p:cNvPr id="762" name="Freeform 55"/>
                    <p:cNvSpPr/>
                    <p:nvPr/>
                  </p:nvSpPr>
                  <p:spPr>
                    <a:xfrm flipH="1" rot="1278000">
                      <a:off x="3695040" y="1787760"/>
                      <a:ext cx="1520280" cy="265320"/>
                    </a:xfrm>
                    <a:custGeom>
                      <a:avLst/>
                      <a:gdLst>
                        <a:gd name="textAreaLeft" fmla="*/ -360 w 1520280"/>
                        <a:gd name="textAreaRight" fmla="*/ 1520280 w 1520280"/>
                        <a:gd name="textAreaTop" fmla="*/ 0 h 265320"/>
                        <a:gd name="textAreaBottom" fmla="*/ 265680 h 2653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3" name="Freeform 56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160"/>
                    </a:xfrm>
                    <a:custGeom>
                      <a:avLst/>
                      <a:gdLst>
                        <a:gd name="textAreaLeft" fmla="*/ 360 w 816480"/>
                        <a:gd name="textAreaRight" fmla="*/ 817200 w 816480"/>
                        <a:gd name="textAreaTop" fmla="*/ 0 h 416160"/>
                        <a:gd name="textAreaBottom" fmla="*/ 416520 h 4161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64" name="Group 57"/>
                  <p:cNvGrpSpPr/>
                  <p:nvPr/>
                </p:nvGrpSpPr>
                <p:grpSpPr>
                  <a:xfrm>
                    <a:off x="3161160" y="831240"/>
                    <a:ext cx="2170440" cy="1508040"/>
                    <a:chOff x="3161160" y="831240"/>
                    <a:chExt cx="2170440" cy="1508040"/>
                  </a:xfrm>
                </p:grpSpPr>
                <p:sp>
                  <p:nvSpPr>
                    <p:cNvPr id="765" name="Freeform 58"/>
                    <p:cNvSpPr/>
                    <p:nvPr/>
                  </p:nvSpPr>
                  <p:spPr>
                    <a:xfrm flipH="1" rot="2028600">
                      <a:off x="3867120" y="1673280"/>
                      <a:ext cx="1519200" cy="265320"/>
                    </a:xfrm>
                    <a:custGeom>
                      <a:avLst/>
                      <a:gdLst>
                        <a:gd name="textAreaLeft" fmla="*/ 360 w 1519200"/>
                        <a:gd name="textAreaRight" fmla="*/ 1519920 w 1519200"/>
                        <a:gd name="textAreaTop" fmla="*/ 0 h 265320"/>
                        <a:gd name="textAreaBottom" fmla="*/ 265680 h 2653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6" name="Freeform 59"/>
                    <p:cNvSpPr/>
                    <p:nvPr/>
                  </p:nvSpPr>
                  <p:spPr>
                    <a:xfrm flipH="1" rot="2028600">
                      <a:off x="3207600" y="1022760"/>
                      <a:ext cx="816120" cy="415440"/>
                    </a:xfrm>
                    <a:custGeom>
                      <a:avLst/>
                      <a:gdLst>
                        <a:gd name="textAreaLeft" fmla="*/ -360 w 816120"/>
                        <a:gd name="textAreaRight" fmla="*/ 816120 w 816120"/>
                        <a:gd name="textAreaTop" fmla="*/ 0 h 415440"/>
                        <a:gd name="textAreaBottom" fmla="*/ 415800 h 4154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67" name="Group 60"/>
                  <p:cNvGrpSpPr/>
                  <p:nvPr/>
                </p:nvGrpSpPr>
                <p:grpSpPr>
                  <a:xfrm>
                    <a:off x="3437280" y="436320"/>
                    <a:ext cx="1987560" cy="1831320"/>
                    <a:chOff x="3437280" y="436320"/>
                    <a:chExt cx="1987560" cy="1831320"/>
                  </a:xfrm>
                </p:grpSpPr>
                <p:sp>
                  <p:nvSpPr>
                    <p:cNvPr id="768" name="Freeform 61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>
                        <a:gd name="textAreaLeft" fmla="*/ -360 w 1542600"/>
                        <a:gd name="textAreaRight" fmla="*/ 1542600 w 154260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9" name="Freeform 62"/>
                    <p:cNvSpPr/>
                    <p:nvPr/>
                  </p:nvSpPr>
                  <p:spPr>
                    <a:xfrm flipH="1" rot="2664600">
                      <a:off x="3464280" y="666360"/>
                      <a:ext cx="828360" cy="417240"/>
                    </a:xfrm>
                    <a:custGeom>
                      <a:avLst/>
                      <a:gdLst>
                        <a:gd name="textAreaLeft" fmla="*/ -360 w 828360"/>
                        <a:gd name="textAreaRight" fmla="*/ 828360 w 828360"/>
                        <a:gd name="textAreaTop" fmla="*/ 0 h 417240"/>
                        <a:gd name="textAreaBottom" fmla="*/ 417600 h 4172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70" name="Group 63"/>
                  <p:cNvGrpSpPr/>
                  <p:nvPr/>
                </p:nvGrpSpPr>
                <p:grpSpPr>
                  <a:xfrm>
                    <a:off x="4027320" y="335880"/>
                    <a:ext cx="1460880" cy="1884960"/>
                    <a:chOff x="4027320" y="335880"/>
                    <a:chExt cx="1460880" cy="1884960"/>
                  </a:xfrm>
                </p:grpSpPr>
                <p:sp>
                  <p:nvSpPr>
                    <p:cNvPr id="771" name="Freeform 64"/>
                    <p:cNvSpPr/>
                    <p:nvPr/>
                  </p:nvSpPr>
                  <p:spPr>
                    <a:xfrm flipH="1" rot="3474000">
                      <a:off x="4336920" y="1443240"/>
                      <a:ext cx="1356840" cy="264960"/>
                    </a:xfrm>
                    <a:custGeom>
                      <a:avLst/>
                      <a:gdLst>
                        <a:gd name="textAreaLeft" fmla="*/ -360 w 1356840"/>
                        <a:gd name="textAreaRight" fmla="*/ 1356840 w 135684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2" name="Freeform 65"/>
                    <p:cNvSpPr/>
                    <p:nvPr/>
                  </p:nvSpPr>
                  <p:spPr>
                    <a:xfrm flipH="1" rot="3474000">
                      <a:off x="4032360" y="546480"/>
                      <a:ext cx="727920" cy="415440"/>
                    </a:xfrm>
                    <a:custGeom>
                      <a:avLst/>
                      <a:gdLst>
                        <a:gd name="textAreaLeft" fmla="*/ 360 w 727920"/>
                        <a:gd name="textAreaRight" fmla="*/ 728640 w 727920"/>
                        <a:gd name="textAreaTop" fmla="*/ 0 h 415440"/>
                        <a:gd name="textAreaBottom" fmla="*/ 415800 h 4154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73" name="Group 66"/>
                  <p:cNvGrpSpPr/>
                  <p:nvPr/>
                </p:nvGrpSpPr>
                <p:grpSpPr>
                  <a:xfrm>
                    <a:off x="4448160" y="245520"/>
                    <a:ext cx="1122120" cy="1945800"/>
                    <a:chOff x="4448160" y="245520"/>
                    <a:chExt cx="1122120" cy="1945800"/>
                  </a:xfrm>
                </p:grpSpPr>
                <p:sp>
                  <p:nvSpPr>
                    <p:cNvPr id="774" name="Freeform 67"/>
                    <p:cNvSpPr/>
                    <p:nvPr/>
                  </p:nvSpPr>
                  <p:spPr>
                    <a:xfrm flipH="1" rot="4126800">
                      <a:off x="4555800" y="1401120"/>
                      <a:ext cx="1307880" cy="264960"/>
                    </a:xfrm>
                    <a:custGeom>
                      <a:avLst/>
                      <a:gdLst>
                        <a:gd name="textAreaLeft" fmla="*/ -360 w 1307880"/>
                        <a:gd name="textAreaRight" fmla="*/ 1307880 w 130788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5" name="Freeform 68"/>
                    <p:cNvSpPr/>
                    <p:nvPr/>
                  </p:nvSpPr>
                  <p:spPr>
                    <a:xfrm flipH="1" rot="4126800">
                      <a:off x="4416840" y="440640"/>
                      <a:ext cx="702720" cy="414720"/>
                    </a:xfrm>
                    <a:custGeom>
                      <a:avLst/>
                      <a:gdLst>
                        <a:gd name="textAreaLeft" fmla="*/ 360 w 702720"/>
                        <a:gd name="textAreaRight" fmla="*/ 703440 w 702720"/>
                        <a:gd name="textAreaTop" fmla="*/ 0 h 414720"/>
                        <a:gd name="textAreaBottom" fmla="*/ 415080 h 4147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76" name="Group 69"/>
                  <p:cNvGrpSpPr/>
                  <p:nvPr/>
                </p:nvGrpSpPr>
                <p:grpSpPr>
                  <a:xfrm>
                    <a:off x="5661720" y="952560"/>
                    <a:ext cx="2316960" cy="1112040"/>
                    <a:chOff x="5661720" y="952560"/>
                    <a:chExt cx="2316960" cy="1112040"/>
                  </a:xfrm>
                </p:grpSpPr>
                <p:sp>
                  <p:nvSpPr>
                    <p:cNvPr id="777" name="Freeform 70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>
                        <a:gd name="textAreaLeft" fmla="*/ 0 w 1519920"/>
                        <a:gd name="textAreaRight" fmla="*/ 1520280 w 151992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8" name="Freeform 71"/>
                    <p:cNvSpPr/>
                    <p:nvPr/>
                  </p:nvSpPr>
                  <p:spPr>
                    <a:xfrm rot="20274000">
                      <a:off x="7113600" y="1090440"/>
                      <a:ext cx="816120" cy="417600"/>
                    </a:xfrm>
                    <a:custGeom>
                      <a:avLst/>
                      <a:gdLst>
                        <a:gd name="textAreaLeft" fmla="*/ 0 w 816120"/>
                        <a:gd name="textAreaRight" fmla="*/ 816480 w 816120"/>
                        <a:gd name="textAreaTop" fmla="*/ 0 h 417600"/>
                        <a:gd name="textAreaBottom" fmla="*/ 417960 h 4176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79" name="Group 72"/>
                  <p:cNvGrpSpPr/>
                  <p:nvPr/>
                </p:nvGrpSpPr>
                <p:grpSpPr>
                  <a:xfrm>
                    <a:off x="5529600" y="626400"/>
                    <a:ext cx="2199600" cy="1450800"/>
                    <a:chOff x="5529600" y="626400"/>
                    <a:chExt cx="2199600" cy="1450800"/>
                  </a:xfrm>
                </p:grpSpPr>
                <p:sp>
                  <p:nvSpPr>
                    <p:cNvPr id="780" name="Freeform 73"/>
                    <p:cNvSpPr/>
                    <p:nvPr/>
                  </p:nvSpPr>
                  <p:spPr>
                    <a:xfrm rot="19678800">
                      <a:off x="5484240" y="1429560"/>
                      <a:ext cx="1518840" cy="264960"/>
                    </a:xfrm>
                    <a:custGeom>
                      <a:avLst/>
                      <a:gdLst>
                        <a:gd name="textAreaLeft" fmla="*/ 0 w 1518840"/>
                        <a:gd name="textAreaRight" fmla="*/ 1519200 w 151884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81" name="Freeform 74"/>
                    <p:cNvSpPr/>
                    <p:nvPr/>
                  </p:nvSpPr>
                  <p:spPr>
                    <a:xfrm rot="19678800">
                      <a:off x="6864120" y="810720"/>
                      <a:ext cx="816120" cy="417960"/>
                    </a:xfrm>
                    <a:custGeom>
                      <a:avLst/>
                      <a:gdLst>
                        <a:gd name="textAreaLeft" fmla="*/ 0 w 816120"/>
                        <a:gd name="textAreaRight" fmla="*/ 816480 w 816120"/>
                        <a:gd name="textAreaTop" fmla="*/ 0 h 417960"/>
                        <a:gd name="textAreaBottom" fmla="*/ 418320 h 4179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82" name="Freeform 75"/>
                  <p:cNvSpPr/>
                  <p:nvPr/>
                </p:nvSpPr>
                <p:spPr>
                  <a:xfrm flipH="1" rot="4578600">
                    <a:off x="4766400" y="1467000"/>
                    <a:ext cx="1264680" cy="178560"/>
                  </a:xfrm>
                  <a:custGeom>
                    <a:avLst/>
                    <a:gdLst>
                      <a:gd name="textAreaLeft" fmla="*/ -360 w 1264680"/>
                      <a:gd name="textAreaRight" fmla="*/ 1264680 w 1264680"/>
                      <a:gd name="textAreaTop" fmla="*/ 0 h 178560"/>
                      <a:gd name="textAreaBottom" fmla="*/ 178920 h 1785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3" name="Freeform 76"/>
                  <p:cNvSpPr/>
                  <p:nvPr/>
                </p:nvSpPr>
                <p:spPr>
                  <a:xfrm flipH="1" rot="4578600">
                    <a:off x="4794120" y="538920"/>
                    <a:ext cx="680760" cy="281880"/>
                  </a:xfrm>
                  <a:custGeom>
                    <a:avLst/>
                    <a:gdLst>
                      <a:gd name="textAreaLeft" fmla="*/ -360 w 680760"/>
                      <a:gd name="textAreaRight" fmla="*/ 680760 w 680760"/>
                      <a:gd name="textAreaTop" fmla="*/ 0 h 281880"/>
                      <a:gd name="textAreaBottom" fmla="*/ 282240 h 2818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84" name="Group 77"/>
                  <p:cNvGrpSpPr/>
                  <p:nvPr/>
                </p:nvGrpSpPr>
                <p:grpSpPr>
                  <a:xfrm>
                    <a:off x="5355720" y="270000"/>
                    <a:ext cx="1196280" cy="1901520"/>
                    <a:chOff x="5355720" y="270000"/>
                    <a:chExt cx="1196280" cy="1901520"/>
                  </a:xfrm>
                </p:grpSpPr>
                <p:sp>
                  <p:nvSpPr>
                    <p:cNvPr id="785" name="Freeform 78"/>
                    <p:cNvSpPr/>
                    <p:nvPr/>
                  </p:nvSpPr>
                  <p:spPr>
                    <a:xfrm rot="17742000">
                      <a:off x="5086800" y="1418760"/>
                      <a:ext cx="1309680" cy="226440"/>
                    </a:xfrm>
                    <a:custGeom>
                      <a:avLst/>
                      <a:gdLst>
                        <a:gd name="textAreaLeft" fmla="*/ 0 w 1309680"/>
                        <a:gd name="textAreaRight" fmla="*/ 1310040 w 1309680"/>
                        <a:gd name="textAreaTop" fmla="*/ 0 h 226440"/>
                        <a:gd name="textAreaBottom" fmla="*/ 226800 h 2264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86" name="Freeform 79"/>
                    <p:cNvSpPr/>
                    <p:nvPr/>
                  </p:nvSpPr>
                  <p:spPr>
                    <a:xfrm rot="17742000">
                      <a:off x="5887800" y="485280"/>
                      <a:ext cx="702360" cy="356760"/>
                    </a:xfrm>
                    <a:custGeom>
                      <a:avLst/>
                      <a:gdLst>
                        <a:gd name="textAreaLeft" fmla="*/ 0 w 702360"/>
                        <a:gd name="textAreaRight" fmla="*/ 702720 w 702360"/>
                        <a:gd name="textAreaTop" fmla="*/ 0 h 356760"/>
                        <a:gd name="textAreaBottom" fmla="*/ 357120 h 3567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87" name="Group 80"/>
                  <p:cNvGrpSpPr/>
                  <p:nvPr/>
                </p:nvGrpSpPr>
                <p:grpSpPr>
                  <a:xfrm>
                    <a:off x="5347440" y="389160"/>
                    <a:ext cx="1891800" cy="1796040"/>
                    <a:chOff x="5347440" y="389160"/>
                    <a:chExt cx="1891800" cy="1796040"/>
                  </a:xfrm>
                </p:grpSpPr>
                <p:sp>
                  <p:nvSpPr>
                    <p:cNvPr id="788" name="Freeform 81"/>
                    <p:cNvSpPr/>
                    <p:nvPr/>
                  </p:nvSpPr>
                  <p:spPr>
                    <a:xfrm rot="18822600">
                      <a:off x="5247360" y="1388880"/>
                      <a:ext cx="1424880" cy="332640"/>
                    </a:xfrm>
                    <a:custGeom>
                      <a:avLst/>
                      <a:gdLst>
                        <a:gd name="textAreaLeft" fmla="*/ 0 w 1424880"/>
                        <a:gd name="textAreaRight" fmla="*/ 1425240 w 1424880"/>
                        <a:gd name="textAreaTop" fmla="*/ 0 h 332640"/>
                        <a:gd name="textAreaBottom" fmla="*/ 333000 h 3326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89" name="Freeform 82"/>
                    <p:cNvSpPr/>
                    <p:nvPr/>
                  </p:nvSpPr>
                  <p:spPr>
                    <a:xfrm rot="18822600">
                      <a:off x="6402600" y="585000"/>
                      <a:ext cx="766080" cy="522360"/>
                    </a:xfrm>
                    <a:custGeom>
                      <a:avLst/>
                      <a:gdLst>
                        <a:gd name="textAreaLeft" fmla="*/ 0 w 766080"/>
                        <a:gd name="textAreaRight" fmla="*/ 766440 w 766080"/>
                        <a:gd name="textAreaTop" fmla="*/ 0 h 522360"/>
                        <a:gd name="textAreaBottom" fmla="*/ 522720 h 5223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90" name="Group 83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791" name="Freeform 84"/>
                    <p:cNvSpPr/>
                    <p:nvPr/>
                  </p:nvSpPr>
                  <p:spPr>
                    <a:xfrm rot="16696200">
                      <a:off x="5007240" y="1445400"/>
                      <a:ext cx="1175760" cy="106200"/>
                    </a:xfrm>
                    <a:custGeom>
                      <a:avLst/>
                      <a:gdLst>
                        <a:gd name="textAreaLeft" fmla="*/ 0 w 1175760"/>
                        <a:gd name="textAreaRight" fmla="*/ 1176120 w 1175760"/>
                        <a:gd name="textAreaTop" fmla="*/ 0 h 106200"/>
                        <a:gd name="textAreaBottom" fmla="*/ 106560 h 1062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2" name="Freeform 85"/>
                    <p:cNvSpPr/>
                    <p:nvPr/>
                  </p:nvSpPr>
                  <p:spPr>
                    <a:xfrm rot="16696200">
                      <a:off x="5441760" y="533160"/>
                      <a:ext cx="631080" cy="167040"/>
                    </a:xfrm>
                    <a:custGeom>
                      <a:avLst/>
                      <a:gdLst>
                        <a:gd name="textAreaLeft" fmla="*/ 0 w 631080"/>
                        <a:gd name="textAreaRight" fmla="*/ 631440 w 631080"/>
                        <a:gd name="textAreaTop" fmla="*/ 0 h 167040"/>
                        <a:gd name="textAreaBottom" fmla="*/ 167040 h 1670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93" name="Group 86"/>
                  <p:cNvGrpSpPr/>
                  <p:nvPr/>
                </p:nvGrpSpPr>
                <p:grpSpPr>
                  <a:xfrm>
                    <a:off x="3062520" y="2530800"/>
                    <a:ext cx="2195280" cy="3002400"/>
                    <a:chOff x="3062520" y="2530800"/>
                    <a:chExt cx="2195280" cy="3002400"/>
                  </a:xfrm>
                </p:grpSpPr>
                <p:sp>
                  <p:nvSpPr>
                    <p:cNvPr id="794" name="Freeform 87"/>
                    <p:cNvSpPr/>
                    <p:nvPr/>
                  </p:nvSpPr>
                  <p:spPr>
                    <a:xfrm flipH="1" rot="18336000">
                      <a:off x="3419280" y="3314880"/>
                      <a:ext cx="2126520" cy="384120"/>
                    </a:xfrm>
                    <a:custGeom>
                      <a:avLst/>
                      <a:gdLst>
                        <a:gd name="textAreaLeft" fmla="*/ -360 w 2126520"/>
                        <a:gd name="textAreaRight" fmla="*/ 2126520 w 2126520"/>
                        <a:gd name="textAreaTop" fmla="*/ 0 h 384120"/>
                        <a:gd name="textAreaBottom" fmla="*/ 384480 h 3841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5" name="Freeform 88"/>
                    <p:cNvSpPr/>
                    <p:nvPr/>
                  </p:nvSpPr>
                  <p:spPr>
                    <a:xfrm flipH="1" rot="18336000">
                      <a:off x="3069360" y="4592520"/>
                      <a:ext cx="1139040" cy="603360"/>
                    </a:xfrm>
                    <a:custGeom>
                      <a:avLst/>
                      <a:gdLst>
                        <a:gd name="textAreaLeft" fmla="*/ 360 w 1139040"/>
                        <a:gd name="textAreaRight" fmla="*/ 1139760 w 1139040"/>
                        <a:gd name="textAreaTop" fmla="*/ 0 h 603360"/>
                        <a:gd name="textAreaBottom" fmla="*/ 603720 h 6033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96" name="Group 89"/>
                  <p:cNvGrpSpPr/>
                  <p:nvPr/>
                </p:nvGrpSpPr>
                <p:grpSpPr>
                  <a:xfrm>
                    <a:off x="3791520" y="2650680"/>
                    <a:ext cx="1482840" cy="2999880"/>
                    <a:chOff x="3791520" y="2650680"/>
                    <a:chExt cx="1482840" cy="2999880"/>
                  </a:xfrm>
                </p:grpSpPr>
                <p:sp>
                  <p:nvSpPr>
                    <p:cNvPr id="797" name="Freeform 90"/>
                    <p:cNvSpPr/>
                    <p:nvPr/>
                  </p:nvSpPr>
                  <p:spPr>
                    <a:xfrm flipH="1" rot="17543400">
                      <a:off x="3737880" y="3440880"/>
                      <a:ext cx="1967400" cy="384840"/>
                    </a:xfrm>
                    <a:custGeom>
                      <a:avLst/>
                      <a:gdLst>
                        <a:gd name="textAreaLeft" fmla="*/ -360 w 1967400"/>
                        <a:gd name="textAreaRight" fmla="*/ 1967400 w 1967400"/>
                        <a:gd name="textAreaTop" fmla="*/ 0 h 384840"/>
                        <a:gd name="textAreaBottom" fmla="*/ 385200 h 3848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8" name="Freeform 91"/>
                    <p:cNvSpPr/>
                    <p:nvPr/>
                  </p:nvSpPr>
                  <p:spPr>
                    <a:xfrm flipH="1" rot="17543400">
                      <a:off x="3743640" y="4745160"/>
                      <a:ext cx="1055880" cy="603720"/>
                    </a:xfrm>
                    <a:custGeom>
                      <a:avLst/>
                      <a:gdLst>
                        <a:gd name="textAreaLeft" fmla="*/ -360 w 1055880"/>
                        <a:gd name="textAreaRight" fmla="*/ 1055880 w 1055880"/>
                        <a:gd name="textAreaTop" fmla="*/ 0 h 603720"/>
                        <a:gd name="textAreaBottom" fmla="*/ 604080 h 6037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99" name="Group 92"/>
                  <p:cNvGrpSpPr/>
                  <p:nvPr/>
                </p:nvGrpSpPr>
                <p:grpSpPr>
                  <a:xfrm>
                    <a:off x="4509000" y="2703240"/>
                    <a:ext cx="874440" cy="2927520"/>
                    <a:chOff x="4509000" y="2703240"/>
                    <a:chExt cx="874440" cy="2927520"/>
                  </a:xfrm>
                </p:grpSpPr>
                <p:sp>
                  <p:nvSpPr>
                    <p:cNvPr id="800" name="Freeform 93"/>
                    <p:cNvSpPr/>
                    <p:nvPr/>
                  </p:nvSpPr>
                  <p:spPr>
                    <a:xfrm flipH="1" rot="16870800">
                      <a:off x="4086720" y="3488760"/>
                      <a:ext cx="1886760" cy="347040"/>
                    </a:xfrm>
                    <a:custGeom>
                      <a:avLst/>
                      <a:gdLst>
                        <a:gd name="textAreaLeft" fmla="*/ -360 w 1886760"/>
                        <a:gd name="textAreaRight" fmla="*/ 1886760 w 1886760"/>
                        <a:gd name="textAreaTop" fmla="*/ 0 h 347040"/>
                        <a:gd name="textAreaBottom" fmla="*/ 347400 h 3470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01" name="Freeform 94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>
                        <a:gd name="textAreaLeft" fmla="*/ 360 w 1012320"/>
                        <a:gd name="textAreaRight" fmla="*/ 1013040 w 1012320"/>
                        <a:gd name="textAreaTop" fmla="*/ 0 h 544320"/>
                        <a:gd name="textAreaBottom" fmla="*/ 544680 h 5443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02" name="Group 95"/>
                  <p:cNvGrpSpPr/>
                  <p:nvPr/>
                </p:nvGrpSpPr>
                <p:grpSpPr>
                  <a:xfrm>
                    <a:off x="5677920" y="2483280"/>
                    <a:ext cx="2280600" cy="2953080"/>
                    <a:chOff x="5677920" y="2483280"/>
                    <a:chExt cx="2280600" cy="2953080"/>
                  </a:xfrm>
                </p:grpSpPr>
                <p:sp>
                  <p:nvSpPr>
                    <p:cNvPr id="803" name="Freeform 96"/>
                    <p:cNvSpPr/>
                    <p:nvPr/>
                  </p:nvSpPr>
                  <p:spPr>
                    <a:xfrm rot="3144000">
                      <a:off x="5415120" y="3250800"/>
                      <a:ext cx="2126520" cy="384120"/>
                    </a:xfrm>
                    <a:custGeom>
                      <a:avLst/>
                      <a:gdLst>
                        <a:gd name="textAreaLeft" fmla="*/ 0 w 2126520"/>
                        <a:gd name="textAreaRight" fmla="*/ 2126880 w 2126520"/>
                        <a:gd name="textAreaTop" fmla="*/ 0 h 384120"/>
                        <a:gd name="textAreaBottom" fmla="*/ 384480 h 3841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04" name="Freeform 97"/>
                    <p:cNvSpPr/>
                    <p:nvPr/>
                  </p:nvSpPr>
                  <p:spPr>
                    <a:xfrm rot="3144000">
                      <a:off x="6801480" y="4498560"/>
                      <a:ext cx="1139760" cy="604080"/>
                    </a:xfrm>
                    <a:custGeom>
                      <a:avLst/>
                      <a:gdLst>
                        <a:gd name="textAreaLeft" fmla="*/ 0 w 1139760"/>
                        <a:gd name="textAreaRight" fmla="*/ 1140120 w 1139760"/>
                        <a:gd name="textAreaTop" fmla="*/ 0 h 604080"/>
                        <a:gd name="textAreaBottom" fmla="*/ 604440 h 604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05" name="Group 98"/>
                  <p:cNvGrpSpPr/>
                  <p:nvPr/>
                </p:nvGrpSpPr>
                <p:grpSpPr>
                  <a:xfrm>
                    <a:off x="5648040" y="2593440"/>
                    <a:ext cx="1758600" cy="3032280"/>
                    <a:chOff x="5648040" y="2593440"/>
                    <a:chExt cx="1758600" cy="3032280"/>
                  </a:xfrm>
                </p:grpSpPr>
                <p:sp>
                  <p:nvSpPr>
                    <p:cNvPr id="806" name="Freeform 99"/>
                    <p:cNvSpPr/>
                    <p:nvPr/>
                  </p:nvSpPr>
                  <p:spPr>
                    <a:xfrm rot="3745200">
                      <a:off x="5265000" y="3395880"/>
                      <a:ext cx="2034000" cy="368280"/>
                    </a:xfrm>
                    <a:custGeom>
                      <a:avLst/>
                      <a:gdLst>
                        <a:gd name="textAreaLeft" fmla="*/ 0 w 2034000"/>
                        <a:gd name="textAreaRight" fmla="*/ 2034360 w 2034000"/>
                        <a:gd name="textAreaTop" fmla="*/ 0 h 368280"/>
                        <a:gd name="textAreaBottom" fmla="*/ 368640 h 3682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07" name="Freeform 100"/>
                    <p:cNvSpPr/>
                    <p:nvPr/>
                  </p:nvSpPr>
                  <p:spPr>
                    <a:xfrm rot="3745200">
                      <a:off x="6352560" y="4719600"/>
                      <a:ext cx="1090440" cy="578160"/>
                    </a:xfrm>
                    <a:custGeom>
                      <a:avLst/>
                      <a:gdLst>
                        <a:gd name="textAreaLeft" fmla="*/ 0 w 1090440"/>
                        <a:gd name="textAreaRight" fmla="*/ 1090800 w 1090440"/>
                        <a:gd name="textAreaTop" fmla="*/ 0 h 578160"/>
                        <a:gd name="textAreaBottom" fmla="*/ 578520 h 5781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08" name="Group 101"/>
                  <p:cNvGrpSpPr/>
                  <p:nvPr/>
                </p:nvGrpSpPr>
                <p:grpSpPr>
                  <a:xfrm>
                    <a:off x="5576040" y="2710800"/>
                    <a:ext cx="1225440" cy="2986560"/>
                    <a:chOff x="5576040" y="2710800"/>
                    <a:chExt cx="1225440" cy="2986560"/>
                  </a:xfrm>
                </p:grpSpPr>
                <p:sp>
                  <p:nvSpPr>
                    <p:cNvPr id="809" name="Freeform 102"/>
                    <p:cNvSpPr/>
                    <p:nvPr/>
                  </p:nvSpPr>
                  <p:spPr>
                    <a:xfrm rot="4286400">
                      <a:off x="5046480" y="3542760"/>
                      <a:ext cx="1973520" cy="302760"/>
                    </a:xfrm>
                    <a:custGeom>
                      <a:avLst/>
                      <a:gdLst>
                        <a:gd name="textAreaLeft" fmla="*/ 0 w 1973520"/>
                        <a:gd name="textAreaRight" fmla="*/ 1973880 w 1973520"/>
                        <a:gd name="textAreaTop" fmla="*/ 0 h 302760"/>
                        <a:gd name="textAreaBottom" fmla="*/ 303120 h 3027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0" name="Freeform 103"/>
                    <p:cNvSpPr/>
                    <p:nvPr/>
                  </p:nvSpPr>
                  <p:spPr>
                    <a:xfrm rot="4286400">
                      <a:off x="5877720" y="4881960"/>
                      <a:ext cx="1059480" cy="474840"/>
                    </a:xfrm>
                    <a:custGeom>
                      <a:avLst/>
                      <a:gdLst>
                        <a:gd name="textAreaLeft" fmla="*/ 0 w 1059480"/>
                        <a:gd name="textAreaRight" fmla="*/ 1059840 w 1059480"/>
                        <a:gd name="textAreaTop" fmla="*/ 0 h 474840"/>
                        <a:gd name="textAreaBottom" fmla="*/ 475200 h 4748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11" name="Group 104"/>
                  <p:cNvGrpSpPr/>
                  <p:nvPr/>
                </p:nvGrpSpPr>
                <p:grpSpPr>
                  <a:xfrm>
                    <a:off x="5521320" y="2840760"/>
                    <a:ext cx="696960" cy="2777760"/>
                    <a:chOff x="5521320" y="2840760"/>
                    <a:chExt cx="696960" cy="2777760"/>
                  </a:xfrm>
                </p:grpSpPr>
                <p:sp>
                  <p:nvSpPr>
                    <p:cNvPr id="812" name="Freeform 105"/>
                    <p:cNvSpPr/>
                    <p:nvPr/>
                  </p:nvSpPr>
                  <p:spPr>
                    <a:xfrm rot="4898400">
                      <a:off x="4896360" y="3607920"/>
                      <a:ext cx="1812960" cy="303120"/>
                    </a:xfrm>
                    <a:custGeom>
                      <a:avLst/>
                      <a:gdLst>
                        <a:gd name="textAreaLeft" fmla="*/ 0 w 1812960"/>
                        <a:gd name="textAreaRight" fmla="*/ 1813320 w 1812960"/>
                        <a:gd name="textAreaTop" fmla="*/ 0 h 303120"/>
                        <a:gd name="textAreaBottom" fmla="*/ 303480 h 3031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3" name="Freeform 106"/>
                    <p:cNvSpPr/>
                    <p:nvPr/>
                  </p:nvSpPr>
                  <p:spPr>
                    <a:xfrm rot="4898400">
                      <a:off x="5425200" y="4864320"/>
                      <a:ext cx="973800" cy="475560"/>
                    </a:xfrm>
                    <a:custGeom>
                      <a:avLst/>
                      <a:gdLst>
                        <a:gd name="textAreaLeft" fmla="*/ 0 w 973800"/>
                        <a:gd name="textAreaRight" fmla="*/ 974160 w 973800"/>
                        <a:gd name="textAreaTop" fmla="*/ 0 h 475560"/>
                        <a:gd name="textAreaBottom" fmla="*/ 475920 h 4755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14" name="Group 107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815" name="Freeform 108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>
                        <a:gd name="textAreaLeft" fmla="*/ 0 w 1771920"/>
                        <a:gd name="textAreaRight" fmla="*/ 1772280 w 1771920"/>
                        <a:gd name="textAreaTop" fmla="*/ 0 h 231480"/>
                        <a:gd name="textAreaBottom" fmla="*/ 231840 h 231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6" name="Freeform 109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>
                        <a:gd name="textAreaLeft" fmla="*/ 0 w 950760"/>
                        <a:gd name="textAreaRight" fmla="*/ 951120 w 950760"/>
                        <a:gd name="textAreaTop" fmla="*/ 0 h 363240"/>
                        <a:gd name="textAreaBottom" fmla="*/ 363600 h 3632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817" name="Group 110"/>
              <p:cNvGrpSpPr/>
              <p:nvPr/>
            </p:nvGrpSpPr>
            <p:grpSpPr>
              <a:xfrm>
                <a:off x="2175120" y="682560"/>
                <a:ext cx="6731640" cy="4521240"/>
                <a:chOff x="2175120" y="682560"/>
                <a:chExt cx="6731640" cy="4521240"/>
              </a:xfrm>
            </p:grpSpPr>
            <p:grpSp>
              <p:nvGrpSpPr>
                <p:cNvPr id="818" name="Group 111"/>
                <p:cNvGrpSpPr/>
                <p:nvPr/>
              </p:nvGrpSpPr>
              <p:grpSpPr>
                <a:xfrm>
                  <a:off x="2175120" y="682560"/>
                  <a:ext cx="6731640" cy="4521240"/>
                  <a:chOff x="2175120" y="682560"/>
                  <a:chExt cx="6731640" cy="4521240"/>
                </a:xfrm>
              </p:grpSpPr>
              <p:sp>
                <p:nvSpPr>
                  <p:cNvPr id="819" name="Arc 112"/>
                  <p:cNvSpPr/>
                  <p:nvPr/>
                </p:nvSpPr>
                <p:spPr>
                  <a:xfrm flipV="1">
                    <a:off x="5742000" y="857880"/>
                    <a:ext cx="3164760" cy="2523960"/>
                  </a:xfrm>
                  <a:custGeom>
                    <a:avLst/>
                    <a:gdLst>
                      <a:gd name="textAreaLeft" fmla="*/ 0 w 3164760"/>
                      <a:gd name="textAreaRight" fmla="*/ 3165120 w 3164760"/>
                      <a:gd name="textAreaTop" fmla="*/ -360 h 2523960"/>
                      <a:gd name="textAreaBottom" fmla="*/ 2523960 h 2523960"/>
                    </a:gdLst>
                    <a:ahLst/>
                    <a:rect l="textAreaLeft" t="textAreaTop" r="textAreaRight" b="textAreaBottom"/>
                    <a:pathLst>
                      <a:path fill="none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</a:path>
                      <a:path stroke="0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  <a:lnTo>
                          <a:pt x="17826" y="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0" name="Arc 113"/>
                  <p:cNvSpPr/>
                  <p:nvPr/>
                </p:nvSpPr>
                <p:spPr>
                  <a:xfrm flipH="1">
                    <a:off x="2562480" y="2270520"/>
                    <a:ext cx="2485440" cy="2933280"/>
                  </a:xfrm>
                  <a:custGeom>
                    <a:avLst/>
                    <a:gdLst>
                      <a:gd name="textAreaLeft" fmla="*/ 360 w 2485440"/>
                      <a:gd name="textAreaRight" fmla="*/ 2486160 w 2485440"/>
                      <a:gd name="textAreaTop" fmla="*/ 0 h 2933280"/>
                      <a:gd name="textAreaBottom" fmla="*/ 2933640 h 2933280"/>
                    </a:gdLst>
                    <a:ahLst/>
                    <a:rect l="textAreaLeft" t="textAreaTop" r="textAreaRight" b="textAreaBottom"/>
                    <a:pathLst>
                      <a:path fill="none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</a:path>
                      <a:path stroke="0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  <a:lnTo>
                          <a:pt x="8873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1" name="Arc 114"/>
                  <p:cNvSpPr/>
                  <p:nvPr/>
                </p:nvSpPr>
                <p:spPr>
                  <a:xfrm>
                    <a:off x="5819760" y="1752840"/>
                    <a:ext cx="1757880" cy="2934360"/>
                  </a:xfrm>
                  <a:custGeom>
                    <a:avLst/>
                    <a:gdLst>
                      <a:gd name="textAreaLeft" fmla="*/ 0 w 1757880"/>
                      <a:gd name="textAreaRight" fmla="*/ 1758240 w 1757880"/>
                      <a:gd name="textAreaTop" fmla="*/ 0 h 2934360"/>
                      <a:gd name="textAreaBottom" fmla="*/ 2934720 h 2934360"/>
                    </a:gdLst>
                    <a:ahLst/>
                    <a:rect l="textAreaLeft" t="textAreaTop" r="textAreaRight" b="textAreaBottom"/>
                    <a:pathLst>
                      <a:path fill="none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</a:path>
                      <a:path stroke="0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  <a:lnTo>
                          <a:pt x="13212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2" name="Arc 115"/>
                  <p:cNvSpPr/>
                  <p:nvPr/>
                </p:nvSpPr>
                <p:spPr>
                  <a:xfrm flipH="1">
                    <a:off x="2174760" y="1297800"/>
                    <a:ext cx="3131640" cy="2934360"/>
                  </a:xfrm>
                  <a:custGeom>
                    <a:avLst/>
                    <a:gdLst>
                      <a:gd name="textAreaLeft" fmla="*/ -360 w 3131640"/>
                      <a:gd name="textAreaRight" fmla="*/ 3131640 w 3131640"/>
                      <a:gd name="textAreaTop" fmla="*/ 0 h 2934360"/>
                      <a:gd name="textAreaBottom" fmla="*/ 2934720 h 2934360"/>
                    </a:gdLst>
                    <a:ahLst/>
                    <a:rect l="textAreaLeft" t="textAreaTop" r="textAreaRight" b="textAreaBottom"/>
                    <a:pathLst>
                      <a:path fill="none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</a:path>
                      <a:path stroke="0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  <a:lnTo>
                          <a:pt x="15230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3" name="Arc 116"/>
                  <p:cNvSpPr/>
                  <p:nvPr/>
                </p:nvSpPr>
                <p:spPr>
                  <a:xfrm flipH="1">
                    <a:off x="3057120" y="682560"/>
                    <a:ext cx="2280600" cy="2840760"/>
                  </a:xfrm>
                  <a:custGeom>
                    <a:avLst/>
                    <a:gdLst>
                      <a:gd name="textAreaLeft" fmla="*/ -360 w 2280600"/>
                      <a:gd name="textAreaRight" fmla="*/ 2280600 w 2280600"/>
                      <a:gd name="textAreaTop" fmla="*/ 0 h 2840760"/>
                      <a:gd name="textAreaBottom" fmla="*/ 2840760 h 2840760"/>
                    </a:gdLst>
                    <a:ahLst/>
                    <a:rect l="textAreaLeft" t="textAreaTop" r="textAreaRight" b="textAreaBottom"/>
                    <a:pathLst>
                      <a:path fill="none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</a:path>
                      <a:path stroke="0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  <a:lnTo>
                          <a:pt x="18231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4" name="Arc 117"/>
                  <p:cNvSpPr/>
                  <p:nvPr/>
                </p:nvSpPr>
                <p:spPr>
                  <a:xfrm>
                    <a:off x="5491800" y="1875960"/>
                    <a:ext cx="943200" cy="2840760"/>
                  </a:xfrm>
                  <a:custGeom>
                    <a:avLst/>
                    <a:gdLst>
                      <a:gd name="textAreaLeft" fmla="*/ 0 w 943200"/>
                      <a:gd name="textAreaRight" fmla="*/ 943560 w 943200"/>
                      <a:gd name="textAreaTop" fmla="*/ 0 h 2840760"/>
                      <a:gd name="textAreaBottom" fmla="*/ 2840760 h 2840760"/>
                    </a:gdLst>
                    <a:ahLst/>
                    <a:rect l="textAreaLeft" t="textAreaTop" r="textAreaRight" b="textAreaBottom"/>
                    <a:pathLst>
                      <a:path fill="none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</a:path>
                      <a:path stroke="0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  <a:lnTo>
                          <a:pt x="13212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5" name="Freeform 118"/>
                  <p:cNvSpPr/>
                  <p:nvPr/>
                </p:nvSpPr>
                <p:spPr>
                  <a:xfrm flipH="1">
                    <a:off x="4303800" y="836280"/>
                    <a:ext cx="515160" cy="1879200"/>
                  </a:xfrm>
                  <a:custGeom>
                    <a:avLst/>
                    <a:gdLst>
                      <a:gd name="textAreaLeft" fmla="*/ -360 w 515160"/>
                      <a:gd name="textAreaRight" fmla="*/ 515160 w 515160"/>
                      <a:gd name="textAreaTop" fmla="*/ 0 h 1879200"/>
                      <a:gd name="textAreaBottom" fmla="*/ 1879560 h 1879200"/>
                    </a:gdLst>
                    <a:ahLst/>
                    <a:rect l="textAreaLeft" t="textAreaTop" r="textAreaRight" b="textAreaBottom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26" name="Freeform 119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>
                    <a:gd name="textAreaLeft" fmla="*/ 0 w 544680"/>
                    <a:gd name="textAreaRight" fmla="*/ 545040 w 544680"/>
                    <a:gd name="textAreaTop" fmla="*/ 0 h 1031760"/>
                    <a:gd name="textAreaBottom" fmla="*/ 1032120 h 1031760"/>
                  </a:gdLst>
                  <a:ahLst/>
                  <a:rect l="textAreaLeft" t="textAreaTop" r="textAreaRight" b="textAreaBottom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27" name="Group 120"/>
            <p:cNvGrpSpPr/>
            <p:nvPr/>
          </p:nvGrpSpPr>
          <p:grpSpPr>
            <a:xfrm>
              <a:off x="2342880" y="712800"/>
              <a:ext cx="6410160" cy="4708080"/>
              <a:chOff x="2342880" y="712800"/>
              <a:chExt cx="6410160" cy="4708080"/>
            </a:xfrm>
          </p:grpSpPr>
          <p:sp>
            <p:nvSpPr>
              <p:cNvPr id="828" name="Freeform 121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>
                  <a:gd name="textAreaLeft" fmla="*/ -360 w 597960"/>
                  <a:gd name="textAreaRight" fmla="*/ 597960 w 597960"/>
                  <a:gd name="textAreaTop" fmla="*/ 0 h 1823760"/>
                  <a:gd name="textAreaBottom" fmla="*/ 1824120 h 18237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9" name="Arc 122"/>
              <p:cNvSpPr/>
              <p:nvPr/>
            </p:nvSpPr>
            <p:spPr>
              <a:xfrm flipH="1">
                <a:off x="3383280" y="2579760"/>
                <a:ext cx="2615400" cy="2841120"/>
              </a:xfrm>
              <a:custGeom>
                <a:avLst/>
                <a:gdLst>
                  <a:gd name="textAreaLeft" fmla="*/ -360 w 2615400"/>
                  <a:gd name="textAreaRight" fmla="*/ 2615400 w 2615400"/>
                  <a:gd name="textAreaTop" fmla="*/ 0 h 2841120"/>
                  <a:gd name="textAreaBottom" fmla="*/ 2841480 h 2841120"/>
                </a:gdLst>
                <a:ahLst/>
                <a:rect l="textAreaLeft" t="textAreaTop" r="textAreaRight" b="textAreaBottom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0" name="Arc 123"/>
              <p:cNvSpPr/>
              <p:nvPr/>
            </p:nvSpPr>
            <p:spPr>
              <a:xfrm flipH="1">
                <a:off x="3645360" y="2122200"/>
                <a:ext cx="1535040" cy="2934000"/>
              </a:xfrm>
              <a:custGeom>
                <a:avLst/>
                <a:gdLst>
                  <a:gd name="textAreaLeft" fmla="*/ 360 w 1535040"/>
                  <a:gd name="textAreaRight" fmla="*/ 1535760 w 1535040"/>
                  <a:gd name="textAreaTop" fmla="*/ 0 h 2934000"/>
                  <a:gd name="textAreaBottom" fmla="*/ 2934360 h 2934000"/>
                </a:gdLst>
                <a:ahLst/>
                <a:rect l="textAreaLeft" t="textAreaTop" r="textAreaRight" b="textAreaBottom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1" name="Arc 124"/>
              <p:cNvSpPr/>
              <p:nvPr/>
            </p:nvSpPr>
            <p:spPr>
              <a:xfrm flipH="1">
                <a:off x="2342520" y="1738800"/>
                <a:ext cx="2930040" cy="2934000"/>
              </a:xfrm>
              <a:custGeom>
                <a:avLst/>
                <a:gdLst>
                  <a:gd name="textAreaLeft" fmla="*/ -360 w 2930040"/>
                  <a:gd name="textAreaRight" fmla="*/ 2930040 w 2930040"/>
                  <a:gd name="textAreaTop" fmla="*/ 0 h 2934000"/>
                  <a:gd name="textAreaBottom" fmla="*/ 2934360 h 2934000"/>
                </a:gdLst>
                <a:ahLst/>
                <a:rect l="textAreaLeft" t="textAreaTop" r="textAreaRight" b="textAreaBottom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2" name="Arc 125"/>
              <p:cNvSpPr/>
              <p:nvPr/>
            </p:nvSpPr>
            <p:spPr>
              <a:xfrm>
                <a:off x="5586480" y="2150640"/>
                <a:ext cx="469800" cy="2934000"/>
              </a:xfrm>
              <a:custGeom>
                <a:avLst/>
                <a:gdLst>
                  <a:gd name="textAreaLeft" fmla="*/ 0 w 469800"/>
                  <a:gd name="textAreaRight" fmla="*/ 470160 w 469800"/>
                  <a:gd name="textAreaTop" fmla="*/ 0 h 2934000"/>
                  <a:gd name="textAreaBottom" fmla="*/ 2934360 h 293400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3" name="Arc 126"/>
              <p:cNvSpPr/>
              <p:nvPr/>
            </p:nvSpPr>
            <p:spPr>
              <a:xfrm>
                <a:off x="5709960" y="2136960"/>
                <a:ext cx="1237680" cy="2934000"/>
              </a:xfrm>
              <a:custGeom>
                <a:avLst/>
                <a:gdLst>
                  <a:gd name="textAreaLeft" fmla="*/ 0 w 1237680"/>
                  <a:gd name="textAreaRight" fmla="*/ 1238040 w 1237680"/>
                  <a:gd name="textAreaTop" fmla="*/ 0 h 2934000"/>
                  <a:gd name="textAreaBottom" fmla="*/ 2934360 h 293400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4" name="Freeform 127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>
                  <a:gd name="textAreaLeft" fmla="*/ 0 w 597960"/>
                  <a:gd name="textAreaRight" fmla="*/ 598320 w 597960"/>
                  <a:gd name="textAreaTop" fmla="*/ 0 h 1823760"/>
                  <a:gd name="textAreaBottom" fmla="*/ 1824120 h 18237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5" name="Freeform 128"/>
              <p:cNvSpPr/>
              <p:nvPr/>
            </p:nvSpPr>
            <p:spPr>
              <a:xfrm flipV="1" rot="19660800">
                <a:off x="5223600" y="2947320"/>
                <a:ext cx="544680" cy="1033920"/>
              </a:xfrm>
              <a:custGeom>
                <a:avLst/>
                <a:gdLst>
                  <a:gd name="textAreaLeft" fmla="*/ 0 w 544680"/>
                  <a:gd name="textAreaRight" fmla="*/ 545040 w 544680"/>
                  <a:gd name="textAreaTop" fmla="*/ 360 h 1033920"/>
                  <a:gd name="textAreaBottom" fmla="*/ 1034640 h 103392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6" name="Freeform 129"/>
              <p:cNvSpPr/>
              <p:nvPr/>
            </p:nvSpPr>
            <p:spPr>
              <a:xfrm flipH="1">
                <a:off x="2686320" y="3384000"/>
                <a:ext cx="1338120" cy="1879200"/>
              </a:xfrm>
              <a:custGeom>
                <a:avLst/>
                <a:gdLst>
                  <a:gd name="textAreaLeft" fmla="*/ -360 w 1338120"/>
                  <a:gd name="textAreaRight" fmla="*/ 1338120 w 1338120"/>
                  <a:gd name="textAreaTop" fmla="*/ 0 h 1879200"/>
                  <a:gd name="textAreaBottom" fmla="*/ 1879560 h 18792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7" name="Freeform 130"/>
              <p:cNvSpPr/>
              <p:nvPr/>
            </p:nvSpPr>
            <p:spPr>
              <a:xfrm flipH="1">
                <a:off x="3317400" y="1398240"/>
                <a:ext cx="856800" cy="1879200"/>
              </a:xfrm>
              <a:custGeom>
                <a:avLst/>
                <a:gdLst>
                  <a:gd name="textAreaLeft" fmla="*/ 360 w 856800"/>
                  <a:gd name="textAreaRight" fmla="*/ 857520 w 856800"/>
                  <a:gd name="textAreaTop" fmla="*/ 0 h 1879200"/>
                  <a:gd name="textAreaBottom" fmla="*/ 1879560 h 18792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8" name="Freeform 131"/>
              <p:cNvSpPr/>
              <p:nvPr/>
            </p:nvSpPr>
            <p:spPr>
              <a:xfrm>
                <a:off x="7511400" y="3107880"/>
                <a:ext cx="1241640" cy="1974240"/>
              </a:xfrm>
              <a:custGeom>
                <a:avLst/>
                <a:gdLst>
                  <a:gd name="textAreaLeft" fmla="*/ 0 w 1241640"/>
                  <a:gd name="textAreaRight" fmla="*/ 1242000 w 1241640"/>
                  <a:gd name="textAreaTop" fmla="*/ 0 h 1974240"/>
                  <a:gd name="textAreaBottom" fmla="*/ 1974600 h 197424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9" name="Freeform 132"/>
              <p:cNvSpPr/>
              <p:nvPr/>
            </p:nvSpPr>
            <p:spPr>
              <a:xfrm>
                <a:off x="6865200" y="2109960"/>
                <a:ext cx="1873080" cy="1315800"/>
              </a:xfrm>
              <a:custGeom>
                <a:avLst/>
                <a:gdLst>
                  <a:gd name="textAreaLeft" fmla="*/ 0 w 1873080"/>
                  <a:gd name="textAreaRight" fmla="*/ 1873440 w 1873080"/>
                  <a:gd name="textAreaTop" fmla="*/ 0 h 1315800"/>
                  <a:gd name="textAreaBottom" fmla="*/ 1316160 h 13158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0" name="Freeform 133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>
                  <a:gd name="textAreaLeft" fmla="*/ 0 w 817200"/>
                  <a:gd name="textAreaRight" fmla="*/ 817560 w 817200"/>
                  <a:gd name="textAreaTop" fmla="*/ 0 h 1768320"/>
                  <a:gd name="textAreaBottom" fmla="*/ 1768680 h 176832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1" name="Freeform 134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>
                  <a:gd name="textAreaLeft" fmla="*/ 360 w 545040"/>
                  <a:gd name="textAreaRight" fmla="*/ 545760 w 545040"/>
                  <a:gd name="textAreaTop" fmla="*/ 0 h 1032120"/>
                  <a:gd name="textAreaBottom" fmla="*/ 1032480 h 103212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437AE-CDDA-4ED4-95D9-1C128C7708DD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3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884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1655640"/>
                <a:gd name="textAreaBottom" fmla="*/ 1656000 h 1655640"/>
              </a:gdLst>
              <a:ahLst/>
              <a:rect l="textAreaLeft" t="textAreaTop" r="textAreaRight" b="textAreaBottom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85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886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>
                  <a:gd name="textAreaLeft" fmla="*/ 0 w 9141120"/>
                  <a:gd name="textAreaRight" fmla="*/ 9141480 w 91411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7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8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9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0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1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2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3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4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5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6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7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8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9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2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3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5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6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7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8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9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0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11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912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>
                    <a:gd name="textAreaLeft" fmla="*/ 0 w 66960"/>
                    <a:gd name="textAreaRight" fmla="*/ 67320 w 669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3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>
                    <a:gd name="textAreaLeft" fmla="*/ 0 w 246240"/>
                    <a:gd name="textAreaRight" fmla="*/ 246240 w 24624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4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>
                    <a:gd name="textAreaLeft" fmla="*/ 0 w 380880"/>
                    <a:gd name="textAreaRight" fmla="*/ 381240 w 38088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5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>
                    <a:gd name="textAreaLeft" fmla="*/ 0 w 560160"/>
                    <a:gd name="textAreaRight" fmla="*/ 560160 w 560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6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>
                    <a:gd name="textAreaLeft" fmla="*/ 0 w 714240"/>
                    <a:gd name="textAreaRight" fmla="*/ 714240 w 71424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7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>
                    <a:gd name="textAreaLeft" fmla="*/ 0 w 857160"/>
                    <a:gd name="textAreaRight" fmla="*/ 857520 w 857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8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>
                    <a:gd name="textAreaLeft" fmla="*/ 0 w 1019160"/>
                    <a:gd name="textAreaRight" fmla="*/ 1019520 w 1019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9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>
                    <a:gd name="textAreaLeft" fmla="*/ 0 w 1000080"/>
                    <a:gd name="textAreaRight" fmla="*/ 1000440 w 1000080"/>
                    <a:gd name="textAreaTop" fmla="*/ 0 h 1487520"/>
                    <a:gd name="textAreaBottom" fmla="*/ 1487880 h 1487520"/>
                  </a:gdLst>
                  <a:ahLst/>
                  <a:rect l="textAreaLeft" t="textAreaTop" r="textAreaRight" b="textAreaBottom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0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>
                    <a:gd name="textAreaLeft" fmla="*/ 0 w 246240"/>
                    <a:gd name="textAreaRight" fmla="*/ 246240 w 24624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1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>
                    <a:gd name="textAreaLeft" fmla="*/ 0 w 380880"/>
                    <a:gd name="textAreaRight" fmla="*/ 381240 w 38088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2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>
                    <a:gd name="textAreaLeft" fmla="*/ 0 w 569880"/>
                    <a:gd name="textAreaRight" fmla="*/ 570240 w 56988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3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>
                    <a:gd name="textAreaLeft" fmla="*/ 0 w 712800"/>
                    <a:gd name="textAreaRight" fmla="*/ 713160 w 71280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4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>
                    <a:gd name="textAreaLeft" fmla="*/ 0 w 858600"/>
                    <a:gd name="textAreaRight" fmla="*/ 858960 w 85860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5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>
                    <a:gd name="textAreaLeft" fmla="*/ 0 w 1019160"/>
                    <a:gd name="textAreaRight" fmla="*/ 1019520 w 1019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6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>
                    <a:gd name="textAreaLeft" fmla="*/ 0 w 1066680"/>
                    <a:gd name="textAreaRight" fmla="*/ 1067040 w 1066680"/>
                    <a:gd name="textAreaTop" fmla="*/ 0 h 1582560"/>
                    <a:gd name="textAreaBottom" fmla="*/ 1582920 h 1582560"/>
                  </a:gdLst>
                  <a:ahLst/>
                  <a:rect l="textAreaLeft" t="textAreaTop" r="textAreaRight" b="textAreaBottom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27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928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>
                    <a:gd name="textAreaLeft" fmla="*/ 0 w 485640"/>
                    <a:gd name="textAreaRight" fmla="*/ 486000 w 485640"/>
                    <a:gd name="textAreaTop" fmla="*/ 0 h 677880"/>
                    <a:gd name="textAreaBottom" fmla="*/ 678240 h 677880"/>
                  </a:gdLst>
                  <a:ahLst/>
                  <a:rect l="textAreaLeft" t="textAreaTop" r="textAreaRight" b="textAreaBottom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9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>
                    <a:gd name="textAreaLeft" fmla="*/ 0 w 552240"/>
                    <a:gd name="textAreaRight" fmla="*/ 552240 w 552240"/>
                    <a:gd name="textAreaTop" fmla="*/ 0 h 772920"/>
                    <a:gd name="textAreaBottom" fmla="*/ 773280 h 772920"/>
                  </a:gdLst>
                  <a:ahLst/>
                  <a:rect l="textAreaLeft" t="textAreaTop" r="textAreaRight" b="textAreaBottom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30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931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>
                    <a:gd name="textAreaLeft" fmla="*/ 0 w 66960"/>
                    <a:gd name="textAreaRight" fmla="*/ 67320 w 6696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2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>
                    <a:gd name="textAreaLeft" fmla="*/ 0 w 636480"/>
                    <a:gd name="textAreaRight" fmla="*/ 636840 w 63648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3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>
                    <a:gd name="textAreaLeft" fmla="*/ 0 w 1074600"/>
                    <a:gd name="textAreaRight" fmla="*/ 1074960 w 107460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4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>
                    <a:gd name="textAreaLeft" fmla="*/ 0 w 1636560"/>
                    <a:gd name="textAreaRight" fmla="*/ 1636920 w 163656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5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>
                    <a:gd name="textAreaLeft" fmla="*/ 0 w 2094120"/>
                    <a:gd name="textAreaRight" fmla="*/ 2094120 w 209412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6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>
                    <a:gd name="textAreaLeft" fmla="*/ 0 w 638280"/>
                    <a:gd name="textAreaRight" fmla="*/ 638280 w 63828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7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>
                    <a:gd name="textAreaLeft" fmla="*/ 0 w 1074600"/>
                    <a:gd name="textAreaRight" fmla="*/ 1074960 w 107460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8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>
                    <a:gd name="textAreaLeft" fmla="*/ 0 w 1644480"/>
                    <a:gd name="textAreaRight" fmla="*/ 1644840 w 164448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9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>
                    <a:gd name="textAreaLeft" fmla="*/ 0 w 2106720"/>
                    <a:gd name="textAreaRight" fmla="*/ 2107080 w 210672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40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>
                  <a:gd name="textAreaLeft" fmla="*/ 0 w 1990800"/>
                  <a:gd name="textAreaRight" fmla="*/ 1991160 w 1990800"/>
                  <a:gd name="textAreaTop" fmla="*/ 0 h 4178160"/>
                  <a:gd name="textAreaBottom" fmla="*/ 4178160 h 4178160"/>
                </a:gdLst>
                <a:ahLst/>
                <a:rect l="textAreaLeft" t="textAreaTop" r="textAreaRight" b="textAreaBottom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1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>
                  <a:gd name="textAreaLeft" fmla="*/ 0 w 1504800"/>
                  <a:gd name="textAreaRight" fmla="*/ 1505160 w 1504800"/>
                  <a:gd name="textAreaTop" fmla="*/ 0 h 2660400"/>
                  <a:gd name="textAreaBottom" fmla="*/ 2660760 h 2660400"/>
                </a:gdLst>
                <a:ahLst/>
                <a:rect l="textAreaLeft" t="textAreaTop" r="textAreaRight" b="textAreaBottom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2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>
                  <a:gd name="textAreaLeft" fmla="*/ 0 w 998640"/>
                  <a:gd name="textAreaRight" fmla="*/ 999000 w 998640"/>
                  <a:gd name="textAreaTop" fmla="*/ 0 h 1487520"/>
                  <a:gd name="textAreaBottom" fmla="*/ 1487880 h 1487520"/>
                </a:gdLst>
                <a:ahLst/>
                <a:rect l="textAreaLeft" t="textAreaTop" r="textAreaRight" b="textAreaBottom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3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677880"/>
                  <a:gd name="textAreaBottom" fmla="*/ 677880 h 677880"/>
                </a:gdLst>
                <a:ahLst/>
                <a:rect l="textAreaLeft" t="textAreaTop" r="textAreaRight" b="textAreaBottom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4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>
                  <a:gd name="textAreaLeft" fmla="*/ 0 w 2027160"/>
                  <a:gd name="textAreaRight" fmla="*/ 2027520 w 2027160"/>
                  <a:gd name="textAreaTop" fmla="*/ 0 h 4263840"/>
                  <a:gd name="textAreaBottom" fmla="*/ 4264200 h 4263840"/>
                </a:gdLst>
                <a:ahLst/>
                <a:rect l="textAreaLeft" t="textAreaTop" r="textAreaRight" b="textAreaBottom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5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>
                  <a:gd name="textAreaLeft" fmla="*/ 0 w 1568520"/>
                  <a:gd name="textAreaRight" fmla="*/ 1568880 w 1568520"/>
                  <a:gd name="textAreaTop" fmla="*/ 0 h 2746440"/>
                  <a:gd name="textAreaBottom" fmla="*/ 2746800 h 2746440"/>
                </a:gdLst>
                <a:ahLst/>
                <a:rect l="textAreaLeft" t="textAreaTop" r="textAreaRight" b="textAreaBottom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6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>
                  <a:gd name="textAreaLeft" fmla="*/ 0 w 1063440"/>
                  <a:gd name="textAreaRight" fmla="*/ 1063800 w 1063440"/>
                  <a:gd name="textAreaTop" fmla="*/ 0 h 1582560"/>
                  <a:gd name="textAreaBottom" fmla="*/ 1582920 h 1582560"/>
                </a:gdLst>
                <a:ahLst/>
                <a:rect l="textAreaLeft" t="textAreaTop" r="textAreaRight" b="textAreaBottom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7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>
                  <a:gd name="textAreaLeft" fmla="*/ 0 w 549360"/>
                  <a:gd name="textAreaRight" fmla="*/ 549720 w 549360"/>
                  <a:gd name="textAreaTop" fmla="*/ 0 h 772920"/>
                  <a:gd name="textAreaBottom" fmla="*/ 773280 h 772920"/>
                </a:gdLst>
                <a:ahLst/>
                <a:rect l="textAreaLeft" t="textAreaTop" r="textAreaRight" b="textAreaBottom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 type="dt" idx="3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 type="ftr" idx="3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2F424-D86F-4DAC-8112-FA5146E187C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0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991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2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9276B-AFB5-43A6-B145-F4C6A0278FF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Picture 2" descr="titlemaster_med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 type="dt" idx="40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 type="sldNum" idx="42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75C26-8C99-4D5E-984A-7C3A620C475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7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108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11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112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3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4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5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6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17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1118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5120"/>
                <a:gd name="textAreaBottom" fmla="*/ 465480 h 46512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60440"/>
                <a:gd name="textAreaBottom" fmla="*/ 460800 h 46044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>
                <a:gd name="textAreaLeft" fmla="*/ 0 w 660240"/>
                <a:gd name="textAreaRight" fmla="*/ 660600 w 660240"/>
                <a:gd name="textAreaTop" fmla="*/ 0 h 420840"/>
                <a:gd name="textAreaBottom" fmla="*/ 421200 h 4208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21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122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3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2840"/>
                  <a:gd name="textAreaBottom" fmla="*/ 493200 h 49284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4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8640"/>
                  <a:gd name="textAreaBottom" fmla="*/ 279000 h 27864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5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86480"/>
                  <a:gd name="textAreaBottom" fmla="*/ 186840 h 1864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6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7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1" name="PlaceHolder 3"/>
          <p:cNvSpPr>
            <a:spLocks noGrp="1"/>
          </p:cNvSpPr>
          <p:nvPr>
            <p:ph type="dt" idx="4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PlaceHolder 4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PlaceHolder 5"/>
          <p:cNvSpPr>
            <a:spLocks noGrp="1"/>
          </p:cNvSpPr>
          <p:nvPr>
            <p:ph type="sldNum" idx="4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59E45-E4BA-4FC1-9FBD-8EF4D1553CC8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44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45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>
                  <a:gd name="textAreaLeft" fmla="*/ 0 w 2743200"/>
                  <a:gd name="textAreaRight" fmla="*/ 2743200 w 2743200"/>
                  <a:gd name="textAreaTop" fmla="*/ 0 h 1166760"/>
                  <a:gd name="textAreaBottom" fmla="*/ 1167120 h 1166760"/>
                </a:gdLst>
                <a:ahLst/>
                <a:rect l="textAreaLeft" t="textAreaTop" r="textAreaRight" b="textAreaBottom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48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4EE4F-C666-47A0-A2AB-84B07EB21C24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Group 2"/>
          <p:cNvGrpSpPr/>
          <p:nvPr/>
        </p:nvGrpSpPr>
        <p:grpSpPr>
          <a:xfrm>
            <a:off x="6273000" y="-21600"/>
            <a:ext cx="2870640" cy="3275640"/>
            <a:chOff x="6273000" y="-21600"/>
            <a:chExt cx="2870640" cy="3275640"/>
          </a:xfrm>
        </p:grpSpPr>
        <p:grpSp>
          <p:nvGrpSpPr>
            <p:cNvPr id="92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93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Oval 5"/>
              <p:cNvSpPr/>
              <p:nvPr/>
            </p:nvSpPr>
            <p:spPr>
              <a:xfrm>
                <a:off x="7926480" y="282960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5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96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Oval 8"/>
              <p:cNvSpPr/>
              <p:nvPr/>
            </p:nvSpPr>
            <p:spPr>
              <a:xfrm>
                <a:off x="816012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8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99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Oval 11"/>
              <p:cNvSpPr/>
              <p:nvPr/>
            </p:nvSpPr>
            <p:spPr>
              <a:xfrm>
                <a:off x="6689880" y="32940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" name="Group 12"/>
            <p:cNvGrpSpPr/>
            <p:nvPr/>
          </p:nvGrpSpPr>
          <p:grpSpPr>
            <a:xfrm>
              <a:off x="6273000" y="-21600"/>
              <a:ext cx="2870640" cy="2269080"/>
              <a:chOff x="6273000" y="-21600"/>
              <a:chExt cx="2870640" cy="2269080"/>
            </a:xfrm>
          </p:grpSpPr>
          <p:grpSp>
            <p:nvGrpSpPr>
              <p:cNvPr id="102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03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" name="Oval 15"/>
                <p:cNvSpPr/>
                <p:nvPr/>
              </p:nvSpPr>
              <p:spPr>
                <a:xfrm>
                  <a:off x="7563600" y="807120"/>
                  <a:ext cx="296640" cy="207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5" name="Group 16"/>
              <p:cNvGrpSpPr/>
              <p:nvPr/>
            </p:nvGrpSpPr>
            <p:grpSpPr>
              <a:xfrm>
                <a:off x="6273000" y="-21600"/>
                <a:ext cx="2868120" cy="2269080"/>
                <a:chOff x="6273000" y="-21600"/>
                <a:chExt cx="2868120" cy="2269080"/>
              </a:xfrm>
            </p:grpSpPr>
            <p:grpSp>
              <p:nvGrpSpPr>
                <p:cNvPr id="106" name="Group 17"/>
                <p:cNvGrpSpPr/>
                <p:nvPr/>
              </p:nvGrpSpPr>
              <p:grpSpPr>
                <a:xfrm>
                  <a:off x="7834680" y="842760"/>
                  <a:ext cx="1064160" cy="1140840"/>
                  <a:chOff x="7834680" y="842760"/>
                  <a:chExt cx="1064160" cy="1140840"/>
                </a:xfrm>
              </p:grpSpPr>
              <p:sp>
                <p:nvSpPr>
                  <p:cNvPr id="107" name="Freeform 18"/>
                  <p:cNvSpPr/>
                  <p:nvPr/>
                </p:nvSpPr>
                <p:spPr>
                  <a:xfrm rot="2711400">
                    <a:off x="7760880" y="1132560"/>
                    <a:ext cx="883800" cy="160200"/>
                  </a:xfrm>
                  <a:custGeom>
                    <a:avLst/>
                    <a:gdLst>
                      <a:gd name="textAreaLeft" fmla="*/ 0 w 883800"/>
                      <a:gd name="textAreaRight" fmla="*/ 884160 w 883800"/>
                      <a:gd name="textAreaTop" fmla="*/ 0 h 160200"/>
                      <a:gd name="textAreaBottom" fmla="*/ 160560 h 1602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9"/>
                  <p:cNvSpPr/>
                  <p:nvPr/>
                </p:nvSpPr>
                <p:spPr>
                  <a:xfrm rot="2711400">
                    <a:off x="8404920" y="1601280"/>
                    <a:ext cx="475200" cy="250560"/>
                  </a:xfrm>
                  <a:custGeom>
                    <a:avLst/>
                    <a:gdLst>
                      <a:gd name="textAreaLeft" fmla="*/ 0 w 475200"/>
                      <a:gd name="textAreaRight" fmla="*/ 475560 w 475200"/>
                      <a:gd name="textAreaTop" fmla="*/ 0 h 250560"/>
                      <a:gd name="textAreaBottom" fmla="*/ 250920 h 2505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9" name="Group 20"/>
                <p:cNvGrpSpPr/>
                <p:nvPr/>
              </p:nvGrpSpPr>
              <p:grpSpPr>
                <a:xfrm>
                  <a:off x="7844760" y="770760"/>
                  <a:ext cx="1266120" cy="1052640"/>
                  <a:chOff x="7844760" y="770760"/>
                  <a:chExt cx="1266120" cy="1052640"/>
                </a:xfrm>
              </p:grpSpPr>
              <p:sp>
                <p:nvSpPr>
                  <p:cNvPr id="110" name="Freeform 21"/>
                  <p:cNvSpPr/>
                  <p:nvPr/>
                </p:nvSpPr>
                <p:spPr>
                  <a:xfrm rot="2103600">
                    <a:off x="7811280" y="1021680"/>
                    <a:ext cx="930960" cy="177840"/>
                  </a:xfrm>
                  <a:custGeom>
                    <a:avLst/>
                    <a:gdLst>
                      <a:gd name="textAreaLeft" fmla="*/ 0 w 930960"/>
                      <a:gd name="textAreaRight" fmla="*/ 931320 w 930960"/>
                      <a:gd name="textAreaTop" fmla="*/ 0 h 177840"/>
                      <a:gd name="textAreaBottom" fmla="*/ 178200 h 177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22"/>
                  <p:cNvSpPr/>
                  <p:nvPr/>
                </p:nvSpPr>
                <p:spPr>
                  <a:xfrm rot="2103600">
                    <a:off x="8575200" y="1425240"/>
                    <a:ext cx="500400" cy="279720"/>
                  </a:xfrm>
                  <a:custGeom>
                    <a:avLst/>
                    <a:gdLst>
                      <a:gd name="textAreaLeft" fmla="*/ 0 w 500400"/>
                      <a:gd name="textAreaRight" fmla="*/ 500760 w 500400"/>
                      <a:gd name="textAreaTop" fmla="*/ 0 h 279720"/>
                      <a:gd name="textAreaBottom" fmla="*/ 280080 h 2797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2" name="Group 23"/>
                <p:cNvGrpSpPr/>
                <p:nvPr/>
              </p:nvGrpSpPr>
              <p:grpSpPr>
                <a:xfrm>
                  <a:off x="7840080" y="735480"/>
                  <a:ext cx="1288440" cy="828720"/>
                  <a:chOff x="7840080" y="735480"/>
                  <a:chExt cx="1288440" cy="828720"/>
                </a:xfrm>
              </p:grpSpPr>
              <p:sp>
                <p:nvSpPr>
                  <p:cNvPr id="113" name="Freeform 24"/>
                  <p:cNvSpPr/>
                  <p:nvPr/>
                </p:nvSpPr>
                <p:spPr>
                  <a:xfrm rot="1582800">
                    <a:off x="7828200" y="924840"/>
                    <a:ext cx="889920" cy="155160"/>
                  </a:xfrm>
                  <a:custGeom>
                    <a:avLst/>
                    <a:gdLst>
                      <a:gd name="textAreaLeft" fmla="*/ 0 w 889920"/>
                      <a:gd name="textAreaRight" fmla="*/ 890280 w 889920"/>
                      <a:gd name="textAreaTop" fmla="*/ 0 h 155160"/>
                      <a:gd name="textAreaBottom" fmla="*/ 155520 h 1551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Freeform 25"/>
                  <p:cNvSpPr/>
                  <p:nvPr/>
                </p:nvSpPr>
                <p:spPr>
                  <a:xfrm rot="1582800">
                    <a:off x="8621640" y="1226520"/>
                    <a:ext cx="477360" cy="244440"/>
                  </a:xfrm>
                  <a:custGeom>
                    <a:avLst/>
                    <a:gdLst>
                      <a:gd name="textAreaLeft" fmla="*/ 0 w 477360"/>
                      <a:gd name="textAreaRight" fmla="*/ 477720 w 477360"/>
                      <a:gd name="textAreaTop" fmla="*/ 0 h 244440"/>
                      <a:gd name="textAreaBottom" fmla="*/ 244800 h 2444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5" name="Group 26"/>
                <p:cNvGrpSpPr/>
                <p:nvPr/>
              </p:nvGrpSpPr>
              <p:grpSpPr>
                <a:xfrm>
                  <a:off x="7837560" y="695880"/>
                  <a:ext cx="1303560" cy="669600"/>
                  <a:chOff x="7837560" y="695880"/>
                  <a:chExt cx="1303560" cy="669600"/>
                </a:xfrm>
              </p:grpSpPr>
              <p:sp>
                <p:nvSpPr>
                  <p:cNvPr id="116" name="Freeform 27"/>
                  <p:cNvSpPr/>
                  <p:nvPr/>
                </p:nvSpPr>
                <p:spPr>
                  <a:xfrm rot="1080000">
                    <a:off x="7842600" y="824400"/>
                    <a:ext cx="860040" cy="171360"/>
                  </a:xfrm>
                  <a:custGeom>
                    <a:avLst/>
                    <a:gdLst>
                      <a:gd name="textAreaLeft" fmla="*/ 0 w 860040"/>
                      <a:gd name="textAreaRight" fmla="*/ 860400 w 860040"/>
                      <a:gd name="textAreaTop" fmla="*/ 0 h 171360"/>
                      <a:gd name="textAreaBottom" fmla="*/ 171720 h 1713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Freeform 28"/>
                  <p:cNvSpPr/>
                  <p:nvPr/>
                </p:nvSpPr>
                <p:spPr>
                  <a:xfrm rot="1080000">
                    <a:off x="8649000" y="1030680"/>
                    <a:ext cx="461520" cy="269640"/>
                  </a:xfrm>
                  <a:custGeom>
                    <a:avLst/>
                    <a:gdLst>
                      <a:gd name="textAreaLeft" fmla="*/ 0 w 461520"/>
                      <a:gd name="textAreaRight" fmla="*/ 461880 w 461520"/>
                      <a:gd name="textAreaTop" fmla="*/ 0 h 269640"/>
                      <a:gd name="textAreaBottom" fmla="*/ 270000 h 2696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29"/>
                <p:cNvGrpSpPr/>
                <p:nvPr/>
              </p:nvGrpSpPr>
              <p:grpSpPr>
                <a:xfrm>
                  <a:off x="7852680" y="657720"/>
                  <a:ext cx="1223280" cy="417600"/>
                  <a:chOff x="7852680" y="657720"/>
                  <a:chExt cx="1223280" cy="417600"/>
                </a:xfrm>
              </p:grpSpPr>
              <p:sp>
                <p:nvSpPr>
                  <p:cNvPr id="119" name="Freeform 30"/>
                  <p:cNvSpPr/>
                  <p:nvPr/>
                </p:nvSpPr>
                <p:spPr>
                  <a:xfrm rot="463200">
                    <a:off x="7859880" y="709920"/>
                    <a:ext cx="792000" cy="160920"/>
                  </a:xfrm>
                  <a:custGeom>
                    <a:avLst/>
                    <a:gdLst>
                      <a:gd name="textAreaLeft" fmla="*/ 0 w 792000"/>
                      <a:gd name="textAreaRight" fmla="*/ 792360 w 792000"/>
                      <a:gd name="textAreaTop" fmla="*/ 0 h 160920"/>
                      <a:gd name="textAreaBottom" fmla="*/ 161280 h 1609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Freeform 31"/>
                  <p:cNvSpPr/>
                  <p:nvPr/>
                </p:nvSpPr>
                <p:spPr>
                  <a:xfrm rot="463200">
                    <a:off x="8635680" y="795960"/>
                    <a:ext cx="425160" cy="252000"/>
                  </a:xfrm>
                  <a:custGeom>
                    <a:avLst/>
                    <a:gdLst>
                      <a:gd name="textAreaLeft" fmla="*/ 0 w 425160"/>
                      <a:gd name="textAreaRight" fmla="*/ 425520 w 425160"/>
                      <a:gd name="textAreaTop" fmla="*/ 0 h 252000"/>
                      <a:gd name="textAreaBottom" fmla="*/ 252360 h 2520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1" name="Group 32"/>
                <p:cNvGrpSpPr/>
                <p:nvPr/>
              </p:nvGrpSpPr>
              <p:grpSpPr>
                <a:xfrm>
                  <a:off x="7871760" y="632880"/>
                  <a:ext cx="1106640" cy="184320"/>
                  <a:chOff x="7871760" y="632880"/>
                  <a:chExt cx="1106640" cy="184320"/>
                </a:xfrm>
              </p:grpSpPr>
              <p:sp>
                <p:nvSpPr>
                  <p:cNvPr id="122" name="Freeform 33"/>
                  <p:cNvSpPr/>
                  <p:nvPr/>
                </p:nvSpPr>
                <p:spPr>
                  <a:xfrm rot="21515400">
                    <a:off x="7872840" y="646920"/>
                    <a:ext cx="720360" cy="111600"/>
                  </a:xfrm>
                  <a:custGeom>
                    <a:avLst/>
                    <a:gdLst>
                      <a:gd name="textAreaLeft" fmla="*/ 0 w 720360"/>
                      <a:gd name="textAreaRight" fmla="*/ 720720 w 720360"/>
                      <a:gd name="textAreaTop" fmla="*/ 0 h 111600"/>
                      <a:gd name="textAreaBottom" fmla="*/ 111960 h 1116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34"/>
                  <p:cNvSpPr/>
                  <p:nvPr/>
                </p:nvSpPr>
                <p:spPr>
                  <a:xfrm rot="21515400">
                    <a:off x="8588520" y="637200"/>
                    <a:ext cx="387360" cy="174960"/>
                  </a:xfrm>
                  <a:custGeom>
                    <a:avLst/>
                    <a:gdLst>
                      <a:gd name="textAreaLeft" fmla="*/ 0 w 387360"/>
                      <a:gd name="textAreaRight" fmla="*/ 387720 w 387360"/>
                      <a:gd name="textAreaTop" fmla="*/ 0 h 174960"/>
                      <a:gd name="textAreaBottom" fmla="*/ 175320 h 1749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4" name="Group 35"/>
                <p:cNvGrpSpPr/>
                <p:nvPr/>
              </p:nvGrpSpPr>
              <p:grpSpPr>
                <a:xfrm>
                  <a:off x="7845120" y="419400"/>
                  <a:ext cx="983880" cy="327240"/>
                  <a:chOff x="7845120" y="419400"/>
                  <a:chExt cx="983880" cy="327240"/>
                </a:xfrm>
              </p:grpSpPr>
              <p:sp>
                <p:nvSpPr>
                  <p:cNvPr id="125" name="Freeform 36"/>
                  <p:cNvSpPr/>
                  <p:nvPr/>
                </p:nvSpPr>
                <p:spPr>
                  <a:xfrm rot="20797200">
                    <a:off x="7849080" y="564480"/>
                    <a:ext cx="633240" cy="110160"/>
                  </a:xfrm>
                  <a:custGeom>
                    <a:avLst/>
                    <a:gdLst>
                      <a:gd name="textAreaLeft" fmla="*/ 0 w 633240"/>
                      <a:gd name="textAreaRight" fmla="*/ 633600 w 633240"/>
                      <a:gd name="textAreaTop" fmla="*/ 0 h 110160"/>
                      <a:gd name="textAreaBottom" fmla="*/ 110520 h 1101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Freeform 37"/>
                  <p:cNvSpPr/>
                  <p:nvPr/>
                </p:nvSpPr>
                <p:spPr>
                  <a:xfrm rot="20797200">
                    <a:off x="8474040" y="456120"/>
                    <a:ext cx="339480" cy="172440"/>
                  </a:xfrm>
                  <a:custGeom>
                    <a:avLst/>
                    <a:gdLst>
                      <a:gd name="textAreaLeft" fmla="*/ 0 w 339480"/>
                      <a:gd name="textAreaRight" fmla="*/ 339840 w 339480"/>
                      <a:gd name="textAreaTop" fmla="*/ 0 h 172440"/>
                      <a:gd name="textAreaBottom" fmla="*/ 172800 h 1724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7" name="Group 38"/>
                <p:cNvGrpSpPr/>
                <p:nvPr/>
              </p:nvGrpSpPr>
              <p:grpSpPr>
                <a:xfrm>
                  <a:off x="6537600" y="905760"/>
                  <a:ext cx="1064520" cy="1141200"/>
                  <a:chOff x="6537600" y="905760"/>
                  <a:chExt cx="1064520" cy="1141200"/>
                </a:xfrm>
              </p:grpSpPr>
              <p:sp>
                <p:nvSpPr>
                  <p:cNvPr id="128" name="Freeform 39"/>
                  <p:cNvSpPr/>
                  <p:nvPr/>
                </p:nvSpPr>
                <p:spPr>
                  <a:xfrm flipH="1" rot="18888600">
                    <a:off x="6791760" y="1195560"/>
                    <a:ext cx="883800" cy="160200"/>
                  </a:xfrm>
                  <a:custGeom>
                    <a:avLst/>
                    <a:gdLst>
                      <a:gd name="textAreaLeft" fmla="*/ -360 w 883800"/>
                      <a:gd name="textAreaRight" fmla="*/ 883800 w 883800"/>
                      <a:gd name="textAreaTop" fmla="*/ 0 h 160200"/>
                      <a:gd name="textAreaBottom" fmla="*/ 160560 h 1602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" name="Freeform 40"/>
                  <p:cNvSpPr/>
                  <p:nvPr/>
                </p:nvSpPr>
                <p:spPr>
                  <a:xfrm flipH="1" rot="18888600">
                    <a:off x="6555960" y="1664640"/>
                    <a:ext cx="474480" cy="250920"/>
                  </a:xfrm>
                  <a:custGeom>
                    <a:avLst/>
                    <a:gdLst>
                      <a:gd name="textAreaLeft" fmla="*/ 360 w 474480"/>
                      <a:gd name="textAreaRight" fmla="*/ 475200 w 474480"/>
                      <a:gd name="textAreaTop" fmla="*/ 0 h 250920"/>
                      <a:gd name="textAreaBottom" fmla="*/ 251280 h 2509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0" name="Group 41"/>
                <p:cNvGrpSpPr/>
                <p:nvPr/>
              </p:nvGrpSpPr>
              <p:grpSpPr>
                <a:xfrm>
                  <a:off x="6303960" y="861480"/>
                  <a:ext cx="1266120" cy="1052640"/>
                  <a:chOff x="6303960" y="861480"/>
                  <a:chExt cx="1266120" cy="1052640"/>
                </a:xfrm>
              </p:grpSpPr>
              <p:sp>
                <p:nvSpPr>
                  <p:cNvPr id="131" name="Freeform 42"/>
                  <p:cNvSpPr/>
                  <p:nvPr/>
                </p:nvSpPr>
                <p:spPr>
                  <a:xfrm flipH="1" rot="19496400">
                    <a:off x="6672600" y="1112400"/>
                    <a:ext cx="930600" cy="177840"/>
                  </a:xfrm>
                  <a:custGeom>
                    <a:avLst/>
                    <a:gdLst>
                      <a:gd name="textAreaLeft" fmla="*/ -360 w 930600"/>
                      <a:gd name="textAreaRight" fmla="*/ 930600 w 930600"/>
                      <a:gd name="textAreaTop" fmla="*/ 0 h 177840"/>
                      <a:gd name="textAreaBottom" fmla="*/ 178200 h 177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>
                      <a:gd name="textAreaLeft" fmla="*/ -360 w 500040"/>
                      <a:gd name="textAreaRight" fmla="*/ 500040 w 500040"/>
                      <a:gd name="textAreaTop" fmla="*/ 0 h 279720"/>
                      <a:gd name="textAreaBottom" fmla="*/ 280080 h 2797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3" name="Group 44"/>
                <p:cNvGrpSpPr/>
                <p:nvPr/>
              </p:nvGrpSpPr>
              <p:grpSpPr>
                <a:xfrm>
                  <a:off x="6286320" y="826920"/>
                  <a:ext cx="1288080" cy="829080"/>
                  <a:chOff x="6286320" y="826920"/>
                  <a:chExt cx="1288080" cy="829080"/>
                </a:xfrm>
              </p:grpSpPr>
              <p:sp>
                <p:nvSpPr>
                  <p:cNvPr id="134" name="Freeform 45"/>
                  <p:cNvSpPr/>
                  <p:nvPr/>
                </p:nvSpPr>
                <p:spPr>
                  <a:xfrm flipH="1" rot="20017200">
                    <a:off x="6695640" y="1016640"/>
                    <a:ext cx="890280" cy="155880"/>
                  </a:xfrm>
                  <a:custGeom>
                    <a:avLst/>
                    <a:gdLst>
                      <a:gd name="textAreaLeft" fmla="*/ -360 w 890280"/>
                      <a:gd name="textAreaRight" fmla="*/ 890280 w 890280"/>
                      <a:gd name="textAreaTop" fmla="*/ 0 h 155880"/>
                      <a:gd name="textAreaBottom" fmla="*/ 156240 h 155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Freeform 46"/>
                  <p:cNvSpPr/>
                  <p:nvPr/>
                </p:nvSpPr>
                <p:spPr>
                  <a:xfrm flipH="1" rot="20017200">
                    <a:off x="6315120" y="1319040"/>
                    <a:ext cx="477360" cy="243360"/>
                  </a:xfrm>
                  <a:custGeom>
                    <a:avLst/>
                    <a:gdLst>
                      <a:gd name="textAreaLeft" fmla="*/ 360 w 477360"/>
                      <a:gd name="textAreaRight" fmla="*/ 478080 w 477360"/>
                      <a:gd name="textAreaTop" fmla="*/ 0 h 243360"/>
                      <a:gd name="textAreaBottom" fmla="*/ 243720 h 2433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6" name="Group 47"/>
                <p:cNvGrpSpPr/>
                <p:nvPr/>
              </p:nvGrpSpPr>
              <p:grpSpPr>
                <a:xfrm>
                  <a:off x="6273000" y="787320"/>
                  <a:ext cx="1304280" cy="668520"/>
                  <a:chOff x="6273000" y="787320"/>
                  <a:chExt cx="1304280" cy="668520"/>
                </a:xfrm>
              </p:grpSpPr>
              <p:sp>
                <p:nvSpPr>
                  <p:cNvPr id="137" name="Freeform 48"/>
                  <p:cNvSpPr/>
                  <p:nvPr/>
                </p:nvSpPr>
                <p:spPr>
                  <a:xfrm flipH="1" rot="20520000">
                    <a:off x="6711480" y="915840"/>
                    <a:ext cx="860400" cy="171000"/>
                  </a:xfrm>
                  <a:custGeom>
                    <a:avLst/>
                    <a:gdLst>
                      <a:gd name="textAreaLeft" fmla="*/ 360 w 860400"/>
                      <a:gd name="textAreaRight" fmla="*/ 861120 w 860400"/>
                      <a:gd name="textAreaTop" fmla="*/ 0 h 171000"/>
                      <a:gd name="textAreaBottom" fmla="*/ 171360 h 1710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49"/>
                  <p:cNvSpPr/>
                  <p:nvPr/>
                </p:nvSpPr>
                <p:spPr>
                  <a:xfrm flipH="1" rot="20520000">
                    <a:off x="6302880" y="1121040"/>
                    <a:ext cx="461520" cy="270000"/>
                  </a:xfrm>
                  <a:custGeom>
                    <a:avLst/>
                    <a:gdLst>
                      <a:gd name="textAreaLeft" fmla="*/ 360 w 461520"/>
                      <a:gd name="textAreaRight" fmla="*/ 462240 w 461520"/>
                      <a:gd name="textAreaTop" fmla="*/ 0 h 270000"/>
                      <a:gd name="textAreaBottom" fmla="*/ 270360 h 2700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9" name="Group 50"/>
                <p:cNvGrpSpPr/>
                <p:nvPr/>
              </p:nvGrpSpPr>
              <p:grpSpPr>
                <a:xfrm>
                  <a:off x="6338520" y="749520"/>
                  <a:ext cx="1223640" cy="416160"/>
                  <a:chOff x="6338520" y="749520"/>
                  <a:chExt cx="1223640" cy="416160"/>
                </a:xfrm>
              </p:grpSpPr>
              <p:sp>
                <p:nvSpPr>
                  <p:cNvPr id="140" name="Freeform 51"/>
                  <p:cNvSpPr/>
                  <p:nvPr/>
                </p:nvSpPr>
                <p:spPr>
                  <a:xfrm flipH="1" rot="21136800">
                    <a:off x="6762960" y="801720"/>
                    <a:ext cx="792000" cy="159840"/>
                  </a:xfrm>
                  <a:custGeom>
                    <a:avLst/>
                    <a:gdLst>
                      <a:gd name="textAreaLeft" fmla="*/ 360 w 792000"/>
                      <a:gd name="textAreaRight" fmla="*/ 792720 w 792000"/>
                      <a:gd name="textAreaTop" fmla="*/ 0 h 159840"/>
                      <a:gd name="textAreaBottom" fmla="*/ 160200 h 159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Freeform 52"/>
                  <p:cNvSpPr/>
                  <p:nvPr/>
                </p:nvSpPr>
                <p:spPr>
                  <a:xfrm flipH="1" rot="21136800">
                    <a:off x="6353280" y="887760"/>
                    <a:ext cx="425160" cy="250200"/>
                  </a:xfrm>
                  <a:custGeom>
                    <a:avLst/>
                    <a:gdLst>
                      <a:gd name="textAreaLeft" fmla="*/ -360 w 425160"/>
                      <a:gd name="textAreaRight" fmla="*/ 425160 w 425160"/>
                      <a:gd name="textAreaTop" fmla="*/ 0 h 250200"/>
                      <a:gd name="textAreaBottom" fmla="*/ 250560 h 2502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2" name="Group 53"/>
                <p:cNvGrpSpPr/>
                <p:nvPr/>
              </p:nvGrpSpPr>
              <p:grpSpPr>
                <a:xfrm>
                  <a:off x="6436440" y="722880"/>
                  <a:ext cx="1106280" cy="184320"/>
                  <a:chOff x="6436440" y="722880"/>
                  <a:chExt cx="1106280" cy="184320"/>
                </a:xfrm>
              </p:grpSpPr>
              <p:sp>
                <p:nvSpPr>
                  <p:cNvPr id="143" name="Freeform 54"/>
                  <p:cNvSpPr/>
                  <p:nvPr/>
                </p:nvSpPr>
                <p:spPr>
                  <a:xfrm flipH="1" rot="84600">
                    <a:off x="6820920" y="736920"/>
                    <a:ext cx="720360" cy="111960"/>
                  </a:xfrm>
                  <a:custGeom>
                    <a:avLst/>
                    <a:gdLst>
                      <a:gd name="textAreaLeft" fmla="*/ -360 w 720360"/>
                      <a:gd name="textAreaRight" fmla="*/ 720360 w 720360"/>
                      <a:gd name="textAreaTop" fmla="*/ 0 h 111960"/>
                      <a:gd name="textAreaBottom" fmla="*/ 112320 h 1119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Freeform 55"/>
                  <p:cNvSpPr/>
                  <p:nvPr/>
                </p:nvSpPr>
                <p:spPr>
                  <a:xfrm flipH="1" rot="84600">
                    <a:off x="6438240" y="727200"/>
                    <a:ext cx="387360" cy="174960"/>
                  </a:xfrm>
                  <a:custGeom>
                    <a:avLst/>
                    <a:gdLst>
                      <a:gd name="textAreaLeft" fmla="*/ 360 w 387360"/>
                      <a:gd name="textAreaRight" fmla="*/ 388080 w 387360"/>
                      <a:gd name="textAreaTop" fmla="*/ 0 h 174960"/>
                      <a:gd name="textAreaBottom" fmla="*/ 175320 h 1749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5" name="Group 56"/>
                <p:cNvGrpSpPr/>
                <p:nvPr/>
              </p:nvGrpSpPr>
              <p:grpSpPr>
                <a:xfrm>
                  <a:off x="6585480" y="509760"/>
                  <a:ext cx="983160" cy="327600"/>
                  <a:chOff x="6585480" y="509760"/>
                  <a:chExt cx="983160" cy="327600"/>
                </a:xfrm>
              </p:grpSpPr>
              <p:sp>
                <p:nvSpPr>
                  <p:cNvPr id="146" name="Freeform 57"/>
                  <p:cNvSpPr/>
                  <p:nvPr/>
                </p:nvSpPr>
                <p:spPr>
                  <a:xfrm flipH="1" rot="802800">
                    <a:off x="6931080" y="655200"/>
                    <a:ext cx="632880" cy="110160"/>
                  </a:xfrm>
                  <a:custGeom>
                    <a:avLst/>
                    <a:gdLst>
                      <a:gd name="textAreaLeft" fmla="*/ 0 w 632880"/>
                      <a:gd name="textAreaRight" fmla="*/ 632880 w 632880"/>
                      <a:gd name="textAreaTop" fmla="*/ 0 h 110160"/>
                      <a:gd name="textAreaBottom" fmla="*/ 110520 h 1101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Freeform 58"/>
                  <p:cNvSpPr/>
                  <p:nvPr/>
                </p:nvSpPr>
                <p:spPr>
                  <a:xfrm flipH="1" rot="802800">
                    <a:off x="6600600" y="546480"/>
                    <a:ext cx="339480" cy="172080"/>
                  </a:xfrm>
                  <a:custGeom>
                    <a:avLst/>
                    <a:gdLst>
                      <a:gd name="textAreaLeft" fmla="*/ -360 w 339480"/>
                      <a:gd name="textAreaRight" fmla="*/ 339480 w 339480"/>
                      <a:gd name="textAreaTop" fmla="*/ 0 h 172080"/>
                      <a:gd name="textAreaBottom" fmla="*/ 172440 h 1720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8" name="Group 59"/>
                <p:cNvGrpSpPr/>
                <p:nvPr/>
              </p:nvGrpSpPr>
              <p:grpSpPr>
                <a:xfrm>
                  <a:off x="6637680" y="390960"/>
                  <a:ext cx="968040" cy="451800"/>
                  <a:chOff x="6637680" y="390960"/>
                  <a:chExt cx="968040" cy="451800"/>
                </a:xfrm>
              </p:grpSpPr>
              <p:sp>
                <p:nvSpPr>
                  <p:cNvPr id="149" name="Freeform 60"/>
                  <p:cNvSpPr/>
                  <p:nvPr/>
                </p:nvSpPr>
                <p:spPr>
                  <a:xfrm flipH="1" rot="1278000">
                    <a:off x="6973920" y="620640"/>
                    <a:ext cx="632880" cy="110880"/>
                  </a:xfrm>
                  <a:custGeom>
                    <a:avLst/>
                    <a:gdLst>
                      <a:gd name="textAreaLeft" fmla="*/ 0 w 632880"/>
                      <a:gd name="textAreaRight" fmla="*/ 632880 w 632880"/>
                      <a:gd name="textAreaTop" fmla="*/ 0 h 110880"/>
                      <a:gd name="textAreaBottom" fmla="*/ 111240 h 110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" name="Freeform 61"/>
                  <p:cNvSpPr/>
                  <p:nvPr/>
                </p:nvSpPr>
                <p:spPr>
                  <a:xfrm flipH="1" rot="1278000">
                    <a:off x="6657480" y="446400"/>
                    <a:ext cx="339120" cy="174240"/>
                  </a:xfrm>
                  <a:custGeom>
                    <a:avLst/>
                    <a:gdLst>
                      <a:gd name="textAreaLeft" fmla="*/ 0 w 339120"/>
                      <a:gd name="textAreaRight" fmla="*/ 339120 w 339120"/>
                      <a:gd name="textAreaTop" fmla="*/ 0 h 174240"/>
                      <a:gd name="textAreaBottom" fmla="*/ 174600 h 1742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1" name="Group 62"/>
                <p:cNvGrpSpPr/>
                <p:nvPr/>
              </p:nvGrpSpPr>
              <p:grpSpPr>
                <a:xfrm>
                  <a:off x="6752160" y="222120"/>
                  <a:ext cx="901800" cy="627480"/>
                  <a:chOff x="6752160" y="222120"/>
                  <a:chExt cx="901800" cy="627480"/>
                </a:xfrm>
              </p:grpSpPr>
              <p:sp>
                <p:nvSpPr>
                  <p:cNvPr id="152" name="Freeform 63"/>
                  <p:cNvSpPr/>
                  <p:nvPr/>
                </p:nvSpPr>
                <p:spPr>
                  <a:xfrm flipH="1" rot="2028600">
                    <a:off x="7043040" y="572760"/>
                    <a:ext cx="633960" cy="109440"/>
                  </a:xfrm>
                  <a:custGeom>
                    <a:avLst/>
                    <a:gdLst>
                      <a:gd name="textAreaLeft" fmla="*/ -360 w 633960"/>
                      <a:gd name="textAreaRight" fmla="*/ 633960 w 633960"/>
                      <a:gd name="textAreaTop" fmla="*/ 0 h 109440"/>
                      <a:gd name="textAreaBottom" fmla="*/ 109800 h 1094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64"/>
                  <p:cNvSpPr/>
                  <p:nvPr/>
                </p:nvSpPr>
                <p:spPr>
                  <a:xfrm flipH="1" rot="2028600">
                    <a:off x="6770880" y="302040"/>
                    <a:ext cx="340200" cy="171720"/>
                  </a:xfrm>
                  <a:custGeom>
                    <a:avLst/>
                    <a:gdLst>
                      <a:gd name="textAreaLeft" fmla="*/ -360 w 340200"/>
                      <a:gd name="textAreaRight" fmla="*/ 340200 w 340200"/>
                      <a:gd name="textAreaTop" fmla="*/ 0 h 171720"/>
                      <a:gd name="textAreaBottom" fmla="*/ 172080 h 1717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4" name="Group 65"/>
                <p:cNvGrpSpPr/>
                <p:nvPr/>
              </p:nvGrpSpPr>
              <p:grpSpPr>
                <a:xfrm>
                  <a:off x="6867360" y="58320"/>
                  <a:ext cx="826200" cy="760320"/>
                  <a:chOff x="6867360" y="58320"/>
                  <a:chExt cx="826200" cy="760320"/>
                </a:xfrm>
              </p:grpSpPr>
              <p:sp>
                <p:nvSpPr>
                  <p:cNvPr id="155" name="Freeform 66"/>
                  <p:cNvSpPr/>
                  <p:nvPr/>
                </p:nvSpPr>
                <p:spPr>
                  <a:xfrm flipH="1" rot="2664600">
                    <a:off x="7104960" y="500400"/>
                    <a:ext cx="641160" cy="109440"/>
                  </a:xfrm>
                  <a:custGeom>
                    <a:avLst/>
                    <a:gdLst>
                      <a:gd name="textAreaLeft" fmla="*/ -360 w 641160"/>
                      <a:gd name="textAreaRight" fmla="*/ 641160 w 641160"/>
                      <a:gd name="textAreaTop" fmla="*/ 0 h 109440"/>
                      <a:gd name="textAreaBottom" fmla="*/ 109800 h 1094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" name="Freeform 67"/>
                  <p:cNvSpPr/>
                  <p:nvPr/>
                </p:nvSpPr>
                <p:spPr>
                  <a:xfrm flipH="1" rot="2664600">
                    <a:off x="6878520" y="154080"/>
                    <a:ext cx="344160" cy="172440"/>
                  </a:xfrm>
                  <a:custGeom>
                    <a:avLst/>
                    <a:gdLst>
                      <a:gd name="textAreaLeft" fmla="*/ 360 w 344160"/>
                      <a:gd name="textAreaRight" fmla="*/ 344880 w 344160"/>
                      <a:gd name="textAreaTop" fmla="*/ 0 h 172440"/>
                      <a:gd name="textAreaBottom" fmla="*/ 172800 h 1724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7" name="Group 68"/>
                <p:cNvGrpSpPr/>
                <p:nvPr/>
              </p:nvGrpSpPr>
              <p:grpSpPr>
                <a:xfrm>
                  <a:off x="7111800" y="16560"/>
                  <a:ext cx="607680" cy="784440"/>
                  <a:chOff x="7111800" y="16560"/>
                  <a:chExt cx="607680" cy="784440"/>
                </a:xfrm>
              </p:grpSpPr>
              <p:sp>
                <p:nvSpPr>
                  <p:cNvPr id="158" name="Freeform 69"/>
                  <p:cNvSpPr/>
                  <p:nvPr/>
                </p:nvSpPr>
                <p:spPr>
                  <a:xfrm flipH="1" rot="3474000">
                    <a:off x="7239240" y="476640"/>
                    <a:ext cx="564840" cy="110880"/>
                  </a:xfrm>
                  <a:custGeom>
                    <a:avLst/>
                    <a:gdLst>
                      <a:gd name="textAreaLeft" fmla="*/ -360 w 564840"/>
                      <a:gd name="textAreaRight" fmla="*/ 564840 w 564840"/>
                      <a:gd name="textAreaTop" fmla="*/ 0 h 110880"/>
                      <a:gd name="textAreaBottom" fmla="*/ 111240 h 110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" name="Freeform 70"/>
                  <p:cNvSpPr/>
                  <p:nvPr/>
                </p:nvSpPr>
                <p:spPr>
                  <a:xfrm flipH="1" rot="3474000">
                    <a:off x="7113240" y="104040"/>
                    <a:ext cx="303120" cy="172440"/>
                  </a:xfrm>
                  <a:custGeom>
                    <a:avLst/>
                    <a:gdLst>
                      <a:gd name="textAreaLeft" fmla="*/ 360 w 303120"/>
                      <a:gd name="textAreaRight" fmla="*/ 303840 w 303120"/>
                      <a:gd name="textAreaTop" fmla="*/ 0 h 172440"/>
                      <a:gd name="textAreaBottom" fmla="*/ 172800 h 1724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0" name="Group 71"/>
                <p:cNvGrpSpPr/>
                <p:nvPr/>
              </p:nvGrpSpPr>
              <p:grpSpPr>
                <a:xfrm>
                  <a:off x="7287480" y="-21600"/>
                  <a:ext cx="466200" cy="809640"/>
                  <a:chOff x="7287480" y="-21600"/>
                  <a:chExt cx="466200" cy="809640"/>
                </a:xfrm>
              </p:grpSpPr>
              <p:sp>
                <p:nvSpPr>
                  <p:cNvPr id="161" name="Freeform 72"/>
                  <p:cNvSpPr/>
                  <p:nvPr/>
                </p:nvSpPr>
                <p:spPr>
                  <a:xfrm flipH="1" rot="4126800">
                    <a:off x="7332120" y="459360"/>
                    <a:ext cx="543960" cy="109440"/>
                  </a:xfrm>
                  <a:custGeom>
                    <a:avLst/>
                    <a:gdLst>
                      <a:gd name="textAreaLeft" fmla="*/ -360 w 543960"/>
                      <a:gd name="textAreaRight" fmla="*/ 543960 w 543960"/>
                      <a:gd name="textAreaTop" fmla="*/ 0 h 109440"/>
                      <a:gd name="textAreaBottom" fmla="*/ 109800 h 1094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" name="Freeform 73"/>
                  <p:cNvSpPr/>
                  <p:nvPr/>
                </p:nvSpPr>
                <p:spPr>
                  <a:xfrm flipH="1" rot="4126800">
                    <a:off x="7274520" y="59400"/>
                    <a:ext cx="292680" cy="173520"/>
                  </a:xfrm>
                  <a:custGeom>
                    <a:avLst/>
                    <a:gdLst>
                      <a:gd name="textAreaLeft" fmla="*/ -360 w 292680"/>
                      <a:gd name="textAreaRight" fmla="*/ 292680 w 292680"/>
                      <a:gd name="textAreaTop" fmla="*/ 0 h 173520"/>
                      <a:gd name="textAreaBottom" fmla="*/ 173520 h 1735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3" name="Group 74"/>
                <p:cNvGrpSpPr/>
                <p:nvPr/>
              </p:nvGrpSpPr>
              <p:grpSpPr>
                <a:xfrm>
                  <a:off x="7792920" y="272160"/>
                  <a:ext cx="964080" cy="462600"/>
                  <a:chOff x="7792920" y="272160"/>
                  <a:chExt cx="964080" cy="462600"/>
                </a:xfrm>
              </p:grpSpPr>
              <p:sp>
                <p:nvSpPr>
                  <p:cNvPr id="164" name="Freeform 75"/>
                  <p:cNvSpPr/>
                  <p:nvPr/>
                </p:nvSpPr>
                <p:spPr>
                  <a:xfrm rot="20274000">
                    <a:off x="7790400" y="509040"/>
                    <a:ext cx="631800" cy="110880"/>
                  </a:xfrm>
                  <a:custGeom>
                    <a:avLst/>
                    <a:gdLst>
                      <a:gd name="textAreaLeft" fmla="*/ 0 w 631800"/>
                      <a:gd name="textAreaRight" fmla="*/ 632160 w 631800"/>
                      <a:gd name="textAreaTop" fmla="*/ 0 h 110880"/>
                      <a:gd name="textAreaBottom" fmla="*/ 111240 h 110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" name="Freeform 76"/>
                  <p:cNvSpPr/>
                  <p:nvPr/>
                </p:nvSpPr>
                <p:spPr>
                  <a:xfrm rot="20274000">
                    <a:off x="8397000" y="329400"/>
                    <a:ext cx="339480" cy="173160"/>
                  </a:xfrm>
                  <a:custGeom>
                    <a:avLst/>
                    <a:gdLst>
                      <a:gd name="textAreaLeft" fmla="*/ 0 w 339480"/>
                      <a:gd name="textAreaRight" fmla="*/ 339840 w 339480"/>
                      <a:gd name="textAreaTop" fmla="*/ 0 h 173160"/>
                      <a:gd name="textAreaBottom" fmla="*/ 173520 h 1731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6" name="Group 77"/>
                <p:cNvGrpSpPr/>
                <p:nvPr/>
              </p:nvGrpSpPr>
              <p:grpSpPr>
                <a:xfrm>
                  <a:off x="7737480" y="136080"/>
                  <a:ext cx="916200" cy="605160"/>
                  <a:chOff x="7737480" y="136080"/>
                  <a:chExt cx="916200" cy="605160"/>
                </a:xfrm>
              </p:grpSpPr>
              <p:sp>
                <p:nvSpPr>
                  <p:cNvPr id="167" name="Freeform 78"/>
                  <p:cNvSpPr/>
                  <p:nvPr/>
                </p:nvSpPr>
                <p:spPr>
                  <a:xfrm rot="19678800">
                    <a:off x="7718400" y="470520"/>
                    <a:ext cx="633600" cy="110880"/>
                  </a:xfrm>
                  <a:custGeom>
                    <a:avLst/>
                    <a:gdLst>
                      <a:gd name="textAreaLeft" fmla="*/ 0 w 633600"/>
                      <a:gd name="textAreaRight" fmla="*/ 633960 w 633600"/>
                      <a:gd name="textAreaTop" fmla="*/ 0 h 110880"/>
                      <a:gd name="textAreaBottom" fmla="*/ 111240 h 110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" name="Freeform 79"/>
                  <p:cNvSpPr/>
                  <p:nvPr/>
                </p:nvSpPr>
                <p:spPr>
                  <a:xfrm rot="19678800">
                    <a:off x="8293680" y="212760"/>
                    <a:ext cx="339480" cy="173880"/>
                  </a:xfrm>
                  <a:custGeom>
                    <a:avLst/>
                    <a:gdLst>
                      <a:gd name="textAreaLeft" fmla="*/ 0 w 339480"/>
                      <a:gd name="textAreaRight" fmla="*/ 339840 w 339480"/>
                      <a:gd name="textAreaTop" fmla="*/ 0 h 173880"/>
                      <a:gd name="textAreaBottom" fmla="*/ 174240 h 1738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9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>
                    <a:gd name="textAreaLeft" fmla="*/ 360 w 527040"/>
                    <a:gd name="textAreaRight" fmla="*/ 527760 w 527040"/>
                    <a:gd name="textAreaTop" fmla="*/ 0 h 74520"/>
                    <a:gd name="textAreaBottom" fmla="*/ 74880 h 74520"/>
                  </a:gdLst>
                  <a:ahLst/>
                  <a:rect l="textAreaLeft" t="textAreaTop" r="textAreaRight" b="textAreaBottom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" name="Freeform 81"/>
                <p:cNvSpPr/>
                <p:nvPr/>
              </p:nvSpPr>
              <p:spPr>
                <a:xfrm flipH="1" rot="4578600">
                  <a:off x="7431120" y="101160"/>
                  <a:ext cx="282600" cy="118440"/>
                </a:xfrm>
                <a:custGeom>
                  <a:avLst/>
                  <a:gdLst>
                    <a:gd name="textAreaLeft" fmla="*/ -360 w 282600"/>
                    <a:gd name="textAreaRight" fmla="*/ 282600 w 282600"/>
                    <a:gd name="textAreaTop" fmla="*/ 0 h 118440"/>
                    <a:gd name="textAreaBottom" fmla="*/ 118800 h 118440"/>
                  </a:gdLst>
                  <a:ahLst/>
                  <a:rect l="textAreaLeft" t="textAreaTop" r="textAreaRight" b="textAreaBottom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71" name="Group 82"/>
                <p:cNvGrpSpPr/>
                <p:nvPr/>
              </p:nvGrpSpPr>
              <p:grpSpPr>
                <a:xfrm>
                  <a:off x="7665480" y="-11520"/>
                  <a:ext cx="497520" cy="791280"/>
                  <a:chOff x="7665480" y="-11520"/>
                  <a:chExt cx="497520" cy="791280"/>
                </a:xfrm>
              </p:grpSpPr>
              <p:sp>
                <p:nvSpPr>
                  <p:cNvPr id="172" name="Freeform 83"/>
                  <p:cNvSpPr/>
                  <p:nvPr/>
                </p:nvSpPr>
                <p:spPr>
                  <a:xfrm rot="17742000">
                    <a:off x="7553880" y="465840"/>
                    <a:ext cx="544680" cy="95400"/>
                  </a:xfrm>
                  <a:custGeom>
                    <a:avLst/>
                    <a:gdLst>
                      <a:gd name="textAreaLeft" fmla="*/ 0 w 544680"/>
                      <a:gd name="textAreaRight" fmla="*/ 545040 w 544680"/>
                      <a:gd name="textAreaTop" fmla="*/ 0 h 95400"/>
                      <a:gd name="textAreaBottom" fmla="*/ 95760 h 954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" name="Freeform 84"/>
                  <p:cNvSpPr/>
                  <p:nvPr/>
                </p:nvSpPr>
                <p:spPr>
                  <a:xfrm rot="17742000">
                    <a:off x="7887240" y="78120"/>
                    <a:ext cx="291960" cy="147600"/>
                  </a:xfrm>
                  <a:custGeom>
                    <a:avLst/>
                    <a:gdLst>
                      <a:gd name="textAreaLeft" fmla="*/ 0 w 291960"/>
                      <a:gd name="textAreaRight" fmla="*/ 292320 w 291960"/>
                      <a:gd name="textAreaTop" fmla="*/ 0 h 147600"/>
                      <a:gd name="textAreaBottom" fmla="*/ 147960 h 1476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4" name="Group 85"/>
                <p:cNvGrpSpPr/>
                <p:nvPr/>
              </p:nvGrpSpPr>
              <p:grpSpPr>
                <a:xfrm>
                  <a:off x="7662960" y="38160"/>
                  <a:ext cx="785520" cy="747360"/>
                  <a:chOff x="7662960" y="38160"/>
                  <a:chExt cx="785520" cy="747360"/>
                </a:xfrm>
              </p:grpSpPr>
              <p:sp>
                <p:nvSpPr>
                  <p:cNvPr id="175" name="Freeform 86"/>
                  <p:cNvSpPr/>
                  <p:nvPr/>
                </p:nvSpPr>
                <p:spPr>
                  <a:xfrm rot="18822600">
                    <a:off x="7621200" y="454680"/>
                    <a:ext cx="591840" cy="137880"/>
                  </a:xfrm>
                  <a:custGeom>
                    <a:avLst/>
                    <a:gdLst>
                      <a:gd name="textAreaLeft" fmla="*/ 0 w 591840"/>
                      <a:gd name="textAreaRight" fmla="*/ 592200 w 591840"/>
                      <a:gd name="textAreaTop" fmla="*/ 0 h 137880"/>
                      <a:gd name="textAreaBottom" fmla="*/ 138240 h 137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" name="Freeform 87"/>
                  <p:cNvSpPr/>
                  <p:nvPr/>
                </p:nvSpPr>
                <p:spPr>
                  <a:xfrm rot="18822600">
                    <a:off x="8101800" y="119520"/>
                    <a:ext cx="317520" cy="216000"/>
                  </a:xfrm>
                  <a:custGeom>
                    <a:avLst/>
                    <a:gdLst>
                      <a:gd name="textAreaLeft" fmla="*/ 0 w 317520"/>
                      <a:gd name="textAreaRight" fmla="*/ 317880 w 317520"/>
                      <a:gd name="textAreaTop" fmla="*/ 0 h 216000"/>
                      <a:gd name="textAreaBottom" fmla="*/ 216360 h 2160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7" name="Group 88"/>
                <p:cNvGrpSpPr/>
                <p:nvPr/>
              </p:nvGrpSpPr>
              <p:grpSpPr>
                <a:xfrm>
                  <a:off x="7708680" y="-720"/>
                  <a:ext cx="177840" cy="745560"/>
                  <a:chOff x="7708680" y="-720"/>
                  <a:chExt cx="177840" cy="745560"/>
                </a:xfrm>
              </p:grpSpPr>
              <p:sp>
                <p:nvSpPr>
                  <p:cNvPr id="178" name="Freeform 89"/>
                  <p:cNvSpPr/>
                  <p:nvPr/>
                </p:nvSpPr>
                <p:spPr>
                  <a:xfrm rot="16696200">
                    <a:off x="7521120" y="477000"/>
                    <a:ext cx="489240" cy="44640"/>
                  </a:xfrm>
                  <a:custGeom>
                    <a:avLst/>
                    <a:gdLst>
                      <a:gd name="textAreaLeft" fmla="*/ 0 w 489240"/>
                      <a:gd name="textAreaRight" fmla="*/ 489600 w 489240"/>
                      <a:gd name="textAreaTop" fmla="*/ 0 h 44640"/>
                      <a:gd name="textAreaBottom" fmla="*/ 45000 h 446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00" bIns="-1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9" name="Freeform 90"/>
                  <p:cNvSpPr/>
                  <p:nvPr/>
                </p:nvSpPr>
                <p:spPr>
                  <a:xfrm rot="16696200">
                    <a:off x="7702560" y="99360"/>
                    <a:ext cx="262080" cy="68400"/>
                  </a:xfrm>
                  <a:custGeom>
                    <a:avLst/>
                    <a:gdLst>
                      <a:gd name="textAreaLeft" fmla="*/ 0 w 262080"/>
                      <a:gd name="textAreaRight" fmla="*/ 262440 w 262080"/>
                      <a:gd name="textAreaTop" fmla="*/ 0 h 68400"/>
                      <a:gd name="textAreaBottom" fmla="*/ 68760 h 684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960" bIns="219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0" name="Group 91"/>
                <p:cNvGrpSpPr/>
                <p:nvPr/>
              </p:nvGrpSpPr>
              <p:grpSpPr>
                <a:xfrm>
                  <a:off x="6711120" y="929880"/>
                  <a:ext cx="913320" cy="1249200"/>
                  <a:chOff x="6711120" y="929880"/>
                  <a:chExt cx="913320" cy="1249200"/>
                </a:xfrm>
              </p:grpSpPr>
              <p:sp>
                <p:nvSpPr>
                  <p:cNvPr id="181" name="Freeform 92"/>
                  <p:cNvSpPr/>
                  <p:nvPr/>
                </p:nvSpPr>
                <p:spPr>
                  <a:xfrm flipH="1" rot="18336000">
                    <a:off x="6859080" y="1256040"/>
                    <a:ext cx="884880" cy="160560"/>
                  </a:xfrm>
                  <a:custGeom>
                    <a:avLst/>
                    <a:gdLst>
                      <a:gd name="textAreaLeft" fmla="*/ 360 w 884880"/>
                      <a:gd name="textAreaRight" fmla="*/ 885600 w 884880"/>
                      <a:gd name="textAreaTop" fmla="*/ 0 h 160560"/>
                      <a:gd name="textAreaBottom" fmla="*/ 160920 h 1605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2" name="Freeform 93"/>
                  <p:cNvSpPr/>
                  <p:nvPr/>
                </p:nvSpPr>
                <p:spPr>
                  <a:xfrm flipH="1" rot="18336000">
                    <a:off x="6713640" y="1787400"/>
                    <a:ext cx="474840" cy="250920"/>
                  </a:xfrm>
                  <a:custGeom>
                    <a:avLst/>
                    <a:gdLst>
                      <a:gd name="textAreaLeft" fmla="*/ -360 w 474840"/>
                      <a:gd name="textAreaRight" fmla="*/ 474840 w 474840"/>
                      <a:gd name="textAreaTop" fmla="*/ 0 h 250920"/>
                      <a:gd name="textAreaBottom" fmla="*/ 251280 h 2509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3" name="Group 94"/>
                <p:cNvGrpSpPr/>
                <p:nvPr/>
              </p:nvGrpSpPr>
              <p:grpSpPr>
                <a:xfrm>
                  <a:off x="7014960" y="979200"/>
                  <a:ext cx="616680" cy="1248120"/>
                  <a:chOff x="7014960" y="979200"/>
                  <a:chExt cx="616680" cy="1248120"/>
                </a:xfrm>
              </p:grpSpPr>
              <p:sp>
                <p:nvSpPr>
                  <p:cNvPr id="184" name="Freeform 95"/>
                  <p:cNvSpPr/>
                  <p:nvPr/>
                </p:nvSpPr>
                <p:spPr>
                  <a:xfrm flipH="1" rot="17543400">
                    <a:off x="6991560" y="1307880"/>
                    <a:ext cx="819000" cy="160920"/>
                  </a:xfrm>
                  <a:custGeom>
                    <a:avLst/>
                    <a:gdLst>
                      <a:gd name="textAreaLeft" fmla="*/ -360 w 819000"/>
                      <a:gd name="textAreaRight" fmla="*/ 819000 w 819000"/>
                      <a:gd name="textAreaTop" fmla="*/ 0 h 160920"/>
                      <a:gd name="textAreaBottom" fmla="*/ 161280 h 1609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5" name="Freeform 96"/>
                  <p:cNvSpPr/>
                  <p:nvPr/>
                </p:nvSpPr>
                <p:spPr>
                  <a:xfrm flipH="1" rot="17543400">
                    <a:off x="6994800" y="1851120"/>
                    <a:ext cx="438480" cy="251280"/>
                  </a:xfrm>
                  <a:custGeom>
                    <a:avLst/>
                    <a:gdLst>
                      <a:gd name="textAreaLeft" fmla="*/ 360 w 438480"/>
                      <a:gd name="textAreaRight" fmla="*/ 439200 w 438480"/>
                      <a:gd name="textAreaTop" fmla="*/ 0 h 251280"/>
                      <a:gd name="textAreaBottom" fmla="*/ 251640 h 2512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6" name="Group 97"/>
                <p:cNvGrpSpPr/>
                <p:nvPr/>
              </p:nvGrpSpPr>
              <p:grpSpPr>
                <a:xfrm>
                  <a:off x="7312680" y="1001160"/>
                  <a:ext cx="362880" cy="1217880"/>
                  <a:chOff x="7312680" y="1001160"/>
                  <a:chExt cx="362880" cy="1217880"/>
                </a:xfrm>
              </p:grpSpPr>
              <p:sp>
                <p:nvSpPr>
                  <p:cNvPr id="187" name="Freeform 98"/>
                  <p:cNvSpPr/>
                  <p:nvPr/>
                </p:nvSpPr>
                <p:spPr>
                  <a:xfrm flipH="1" rot="16870800">
                    <a:off x="7135560" y="1328040"/>
                    <a:ext cx="785520" cy="144360"/>
                  </a:xfrm>
                  <a:custGeom>
                    <a:avLst/>
                    <a:gdLst>
                      <a:gd name="textAreaLeft" fmla="*/ 360 w 785520"/>
                      <a:gd name="textAreaRight" fmla="*/ 786240 w 785520"/>
                      <a:gd name="textAreaTop" fmla="*/ 0 h 144360"/>
                      <a:gd name="textAreaBottom" fmla="*/ 144720 h 1443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" name="Freeform 99"/>
                  <p:cNvSpPr/>
                  <p:nvPr/>
                </p:nvSpPr>
                <p:spPr>
                  <a:xfrm flipH="1" rot="16870800">
                    <a:off x="7253280" y="1878120"/>
                    <a:ext cx="420840" cy="225360"/>
                  </a:xfrm>
                  <a:custGeom>
                    <a:avLst/>
                    <a:gdLst>
                      <a:gd name="textAreaLeft" fmla="*/ -360 w 420840"/>
                      <a:gd name="textAreaRight" fmla="*/ 420840 w 420840"/>
                      <a:gd name="textAreaTop" fmla="*/ 0 h 225360"/>
                      <a:gd name="textAreaBottom" fmla="*/ 225720 h 2253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9" name="Group 100"/>
                <p:cNvGrpSpPr/>
                <p:nvPr/>
              </p:nvGrpSpPr>
              <p:grpSpPr>
                <a:xfrm>
                  <a:off x="7799400" y="909360"/>
                  <a:ext cx="949680" cy="1228680"/>
                  <a:chOff x="7799400" y="909360"/>
                  <a:chExt cx="949680" cy="1228680"/>
                </a:xfrm>
              </p:grpSpPr>
              <p:sp>
                <p:nvSpPr>
                  <p:cNvPr id="190" name="Freeform 101"/>
                  <p:cNvSpPr/>
                  <p:nvPr/>
                </p:nvSpPr>
                <p:spPr>
                  <a:xfrm rot="3144000">
                    <a:off x="7690320" y="1228320"/>
                    <a:ext cx="884160" cy="159840"/>
                  </a:xfrm>
                  <a:custGeom>
                    <a:avLst/>
                    <a:gdLst>
                      <a:gd name="textAreaLeft" fmla="*/ 0 w 884160"/>
                      <a:gd name="textAreaRight" fmla="*/ 884520 w 884160"/>
                      <a:gd name="textAreaTop" fmla="*/ 0 h 159840"/>
                      <a:gd name="textAreaBottom" fmla="*/ 160200 h 159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" name="Freeform 102"/>
                  <p:cNvSpPr/>
                  <p:nvPr/>
                </p:nvSpPr>
                <p:spPr>
                  <a:xfrm rot="3144000">
                    <a:off x="8267040" y="1747080"/>
                    <a:ext cx="474480" cy="252000"/>
                  </a:xfrm>
                  <a:custGeom>
                    <a:avLst/>
                    <a:gdLst>
                      <a:gd name="textAreaLeft" fmla="*/ 0 w 474480"/>
                      <a:gd name="textAreaRight" fmla="*/ 474840 w 474480"/>
                      <a:gd name="textAreaTop" fmla="*/ 0 h 252000"/>
                      <a:gd name="textAreaBottom" fmla="*/ 252360 h 2520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2" name="Group 103"/>
                <p:cNvGrpSpPr/>
                <p:nvPr/>
              </p:nvGrpSpPr>
              <p:grpSpPr>
                <a:xfrm>
                  <a:off x="7786800" y="956160"/>
                  <a:ext cx="732600" cy="1261800"/>
                  <a:chOff x="7786800" y="956160"/>
                  <a:chExt cx="732600" cy="1261800"/>
                </a:xfrm>
              </p:grpSpPr>
              <p:sp>
                <p:nvSpPr>
                  <p:cNvPr id="193" name="Freeform 104"/>
                  <p:cNvSpPr/>
                  <p:nvPr/>
                </p:nvSpPr>
                <p:spPr>
                  <a:xfrm rot="3745200">
                    <a:off x="7627320" y="1289520"/>
                    <a:ext cx="846000" cy="153720"/>
                  </a:xfrm>
                  <a:custGeom>
                    <a:avLst/>
                    <a:gdLst>
                      <a:gd name="textAreaLeft" fmla="*/ 0 w 846000"/>
                      <a:gd name="textAreaRight" fmla="*/ 846360 w 846000"/>
                      <a:gd name="textAreaTop" fmla="*/ 0 h 153720"/>
                      <a:gd name="textAreaBottom" fmla="*/ 154080 h 1537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4" name="Freeform 105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>
                      <a:gd name="textAreaLeft" fmla="*/ 0 w 453960"/>
                      <a:gd name="textAreaRight" fmla="*/ 454320 w 453960"/>
                      <a:gd name="textAreaTop" fmla="*/ 0 h 241200"/>
                      <a:gd name="textAreaBottom" fmla="*/ 241560 h 2412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5" name="Group 106"/>
                <p:cNvGrpSpPr/>
                <p:nvPr/>
              </p:nvGrpSpPr>
              <p:grpSpPr>
                <a:xfrm>
                  <a:off x="7757280" y="1005120"/>
                  <a:ext cx="509760" cy="1242360"/>
                  <a:chOff x="7757280" y="1005120"/>
                  <a:chExt cx="509760" cy="1242360"/>
                </a:xfrm>
              </p:grpSpPr>
              <p:sp>
                <p:nvSpPr>
                  <p:cNvPr id="196" name="Freeform 107"/>
                  <p:cNvSpPr/>
                  <p:nvPr/>
                </p:nvSpPr>
                <p:spPr>
                  <a:xfrm rot="4286400">
                    <a:off x="7536960" y="1351080"/>
                    <a:ext cx="820440" cy="125280"/>
                  </a:xfrm>
                  <a:custGeom>
                    <a:avLst/>
                    <a:gdLst>
                      <a:gd name="textAreaLeft" fmla="*/ 0 w 820440"/>
                      <a:gd name="textAreaRight" fmla="*/ 820800 w 820440"/>
                      <a:gd name="textAreaTop" fmla="*/ 0 h 125280"/>
                      <a:gd name="textAreaBottom" fmla="*/ 125640 h 1252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" name="Freeform 108"/>
                  <p:cNvSpPr/>
                  <p:nvPr/>
                </p:nvSpPr>
                <p:spPr>
                  <a:xfrm rot="4286400">
                    <a:off x="7882200" y="1907280"/>
                    <a:ext cx="441000" cy="198360"/>
                  </a:xfrm>
                  <a:custGeom>
                    <a:avLst/>
                    <a:gdLst>
                      <a:gd name="textAreaLeft" fmla="*/ 0 w 441000"/>
                      <a:gd name="textAreaRight" fmla="*/ 441360 w 441000"/>
                      <a:gd name="textAreaTop" fmla="*/ 0 h 198360"/>
                      <a:gd name="textAreaBottom" fmla="*/ 198720 h 1983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8" name="Group 109"/>
                <p:cNvGrpSpPr/>
                <p:nvPr/>
              </p:nvGrpSpPr>
              <p:grpSpPr>
                <a:xfrm>
                  <a:off x="7733520" y="1058760"/>
                  <a:ext cx="290160" cy="1155600"/>
                  <a:chOff x="7733520" y="1058760"/>
                  <a:chExt cx="290160" cy="1155600"/>
                </a:xfrm>
              </p:grpSpPr>
              <p:sp>
                <p:nvSpPr>
                  <p:cNvPr id="199" name="Freeform 110"/>
                  <p:cNvSpPr/>
                  <p:nvPr/>
                </p:nvSpPr>
                <p:spPr>
                  <a:xfrm rot="4898400">
                    <a:off x="7473240" y="1377720"/>
                    <a:ext cx="754560" cy="126360"/>
                  </a:xfrm>
                  <a:custGeom>
                    <a:avLst/>
                    <a:gdLst>
                      <a:gd name="textAreaLeft" fmla="*/ 0 w 754560"/>
                      <a:gd name="textAreaRight" fmla="*/ 754920 w 754560"/>
                      <a:gd name="textAreaTop" fmla="*/ 0 h 126360"/>
                      <a:gd name="textAreaBottom" fmla="*/ 126720 h 1263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0" name="Freeform 111"/>
                  <p:cNvSpPr/>
                  <p:nvPr/>
                </p:nvSpPr>
                <p:spPr>
                  <a:xfrm rot="4898400">
                    <a:off x="7693560" y="1900440"/>
                    <a:ext cx="405000" cy="197640"/>
                  </a:xfrm>
                  <a:custGeom>
                    <a:avLst/>
                    <a:gdLst>
                      <a:gd name="textAreaLeft" fmla="*/ 0 w 405000"/>
                      <a:gd name="textAreaRight" fmla="*/ 405360 w 405000"/>
                      <a:gd name="textAreaTop" fmla="*/ 0 h 197640"/>
                      <a:gd name="textAreaBottom" fmla="*/ 198000 h 1976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1" name="Group 112"/>
                <p:cNvGrpSpPr/>
                <p:nvPr/>
              </p:nvGrpSpPr>
              <p:grpSpPr>
                <a:xfrm>
                  <a:off x="7500960" y="1077840"/>
                  <a:ext cx="276120" cy="1131480"/>
                  <a:chOff x="7500960" y="1077840"/>
                  <a:chExt cx="276120" cy="1131480"/>
                </a:xfrm>
              </p:grpSpPr>
              <p:sp>
                <p:nvSpPr>
                  <p:cNvPr id="202" name="Freeform 113"/>
                  <p:cNvSpPr/>
                  <p:nvPr/>
                </p:nvSpPr>
                <p:spPr>
                  <a:xfrm rot="5755200">
                    <a:off x="7322760" y="1401120"/>
                    <a:ext cx="736920" cy="95760"/>
                  </a:xfrm>
                  <a:custGeom>
                    <a:avLst/>
                    <a:gdLst>
                      <a:gd name="textAreaLeft" fmla="*/ 0 w 736920"/>
                      <a:gd name="textAreaRight" fmla="*/ 737280 w 736920"/>
                      <a:gd name="textAreaTop" fmla="*/ 0 h 95760"/>
                      <a:gd name="textAreaBottom" fmla="*/ 96120 h 957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3" name="Freeform 114"/>
                  <p:cNvSpPr/>
                  <p:nvPr/>
                </p:nvSpPr>
                <p:spPr>
                  <a:xfrm rot="5755200">
                    <a:off x="7398720" y="1929240"/>
                    <a:ext cx="395280" cy="151200"/>
                  </a:xfrm>
                  <a:custGeom>
                    <a:avLst/>
                    <a:gdLst>
                      <a:gd name="textAreaLeft" fmla="*/ 0 w 395280"/>
                      <a:gd name="textAreaRight" fmla="*/ 395640 w 395280"/>
                      <a:gd name="textAreaTop" fmla="*/ 0 h 151200"/>
                      <a:gd name="textAreaBottom" fmla="*/ 151560 h 1512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04" name="Freeform 115"/>
              <p:cNvSpPr/>
              <p:nvPr/>
            </p:nvSpPr>
            <p:spPr>
              <a:xfrm flipH="1">
                <a:off x="7296120" y="1222560"/>
                <a:ext cx="248400" cy="758880"/>
              </a:xfrm>
              <a:custGeom>
                <a:avLst/>
                <a:gdLst>
                  <a:gd name="textAreaLeft" fmla="*/ 360 w 248400"/>
                  <a:gd name="textAreaRight" fmla="*/ 249120 w 248400"/>
                  <a:gd name="textAreaTop" fmla="*/ 0 h 758880"/>
                  <a:gd name="textAreaBottom" fmla="*/ 759240 h 7588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Arc 116"/>
              <p:cNvSpPr/>
              <p:nvPr/>
            </p:nvSpPr>
            <p:spPr>
              <a:xfrm flipH="1">
                <a:off x="6843240" y="948960"/>
                <a:ext cx="1090080" cy="1181880"/>
              </a:xfrm>
              <a:custGeom>
                <a:avLst/>
                <a:gdLst>
                  <a:gd name="textAreaLeft" fmla="*/ 360 w 1090080"/>
                  <a:gd name="textAreaRight" fmla="*/ 1090800 w 1090080"/>
                  <a:gd name="textAreaTop" fmla="*/ 0 h 1181880"/>
                  <a:gd name="textAreaBottom" fmla="*/ 1182240 h 1181880"/>
                </a:gdLst>
                <a:ahLst/>
                <a:rect l="textAreaLeft" t="textAreaTop" r="textAreaRight" b="textAreaBottom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>
                  <a:gd name="textAreaLeft" fmla="*/ 0 w 1317600"/>
                  <a:gd name="textAreaRight" fmla="*/ 1317960 w 1317600"/>
                  <a:gd name="textAreaTop" fmla="*/ 360 h 1049760"/>
                  <a:gd name="textAreaBottom" fmla="*/ 1050480 h 1049760"/>
                </a:gdLst>
                <a:ahLst/>
                <a:rect l="textAreaLeft" t="textAreaTop" r="textAreaRight" b="textAreaBottom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Arc 118"/>
              <p:cNvSpPr/>
              <p:nvPr/>
            </p:nvSpPr>
            <p:spPr>
              <a:xfrm flipH="1">
                <a:off x="6954480" y="759240"/>
                <a:ext cx="635760" cy="1221120"/>
              </a:xfrm>
              <a:custGeom>
                <a:avLst/>
                <a:gdLst>
                  <a:gd name="textAreaLeft" fmla="*/ 360 w 635760"/>
                  <a:gd name="textAreaRight" fmla="*/ 636480 w 63576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Arc 119"/>
              <p:cNvSpPr/>
              <p:nvPr/>
            </p:nvSpPr>
            <p:spPr>
              <a:xfrm flipH="1">
                <a:off x="6502320" y="821880"/>
                <a:ext cx="1035000" cy="1218600"/>
              </a:xfrm>
              <a:custGeom>
                <a:avLst/>
                <a:gdLst>
                  <a:gd name="textAreaLeft" fmla="*/ -360 w 1035000"/>
                  <a:gd name="textAreaRight" fmla="*/ 1035000 w 1035000"/>
                  <a:gd name="textAreaTop" fmla="*/ 0 h 1218600"/>
                  <a:gd name="textAreaBottom" fmla="*/ 1218960 h 1218600"/>
                </a:gdLst>
                <a:ahLst/>
                <a:rect l="textAreaLeft" t="textAreaTop" r="textAreaRight" b="textAreaBottom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>
                  <a:gd name="textAreaLeft" fmla="*/ 360 w 1219680"/>
                  <a:gd name="textAreaRight" fmla="*/ 1220400 w 121968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Arc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>
                  <a:gd name="textAreaLeft" fmla="*/ 0 w 194760"/>
                  <a:gd name="textAreaRight" fmla="*/ 195120 w 19476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Arc 122"/>
              <p:cNvSpPr/>
              <p:nvPr/>
            </p:nvSpPr>
            <p:spPr>
              <a:xfrm>
                <a:off x="7814160" y="765720"/>
                <a:ext cx="514080" cy="1221120"/>
              </a:xfrm>
              <a:custGeom>
                <a:avLst/>
                <a:gdLst>
                  <a:gd name="textAreaLeft" fmla="*/ 0 w 514080"/>
                  <a:gd name="textAreaRight" fmla="*/ 514440 w 51408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Arc 123"/>
              <p:cNvSpPr/>
              <p:nvPr/>
            </p:nvSpPr>
            <p:spPr>
              <a:xfrm>
                <a:off x="7857720" y="605880"/>
                <a:ext cx="731520" cy="1221120"/>
              </a:xfrm>
              <a:custGeom>
                <a:avLst/>
                <a:gdLst>
                  <a:gd name="textAreaLeft" fmla="*/ 0 w 731520"/>
                  <a:gd name="textAreaRight" fmla="*/ 731880 w 73152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Freeform 124"/>
              <p:cNvSpPr/>
              <p:nvPr/>
            </p:nvSpPr>
            <p:spPr>
              <a:xfrm>
                <a:off x="7998840" y="1351800"/>
                <a:ext cx="246960" cy="759240"/>
              </a:xfrm>
              <a:custGeom>
                <a:avLst/>
                <a:gdLst>
                  <a:gd name="textAreaLeft" fmla="*/ 0 w 246960"/>
                  <a:gd name="textAreaRight" fmla="*/ 247320 w 246960"/>
                  <a:gd name="textAreaTop" fmla="*/ 0 h 759240"/>
                  <a:gd name="textAreaBottom" fmla="*/ 759600 h 75924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Freeform 125"/>
              <p:cNvSpPr/>
              <p:nvPr/>
            </p:nvSpPr>
            <p:spPr>
              <a:xfrm flipV="1" rot="19660800">
                <a:off x="7611120" y="1102680"/>
                <a:ext cx="224640" cy="427680"/>
              </a:xfrm>
              <a:custGeom>
                <a:avLst/>
                <a:gdLst>
                  <a:gd name="textAreaLeft" fmla="*/ 0 w 224640"/>
                  <a:gd name="textAreaRight" fmla="*/ 225000 w 224640"/>
                  <a:gd name="textAreaTop" fmla="*/ 360 h 427680"/>
                  <a:gd name="textAreaBottom" fmla="*/ 428400 h 4276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>
                  <a:gd name="textAreaLeft" fmla="*/ 360 w 1303200"/>
                  <a:gd name="textAreaRight" fmla="*/ 1303920 w 130320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Arc 127"/>
              <p:cNvSpPr/>
              <p:nvPr/>
            </p:nvSpPr>
            <p:spPr>
              <a:xfrm flipH="1">
                <a:off x="6710400" y="159480"/>
                <a:ext cx="947160" cy="1181880"/>
              </a:xfrm>
              <a:custGeom>
                <a:avLst/>
                <a:gdLst>
                  <a:gd name="textAreaLeft" fmla="*/ -360 w 947160"/>
                  <a:gd name="textAreaRight" fmla="*/ 947160 w 947160"/>
                  <a:gd name="textAreaTop" fmla="*/ 0 h 1181880"/>
                  <a:gd name="textAreaBottom" fmla="*/ 1181880 h 1181880"/>
                </a:gdLst>
                <a:ahLst/>
                <a:rect l="textAreaLeft" t="textAreaTop" r="textAreaRight" b="textAreaBottom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Arc 128"/>
              <p:cNvSpPr/>
              <p:nvPr/>
            </p:nvSpPr>
            <p:spPr>
              <a:xfrm>
                <a:off x="7722360" y="657000"/>
                <a:ext cx="390240" cy="1181880"/>
              </a:xfrm>
              <a:custGeom>
                <a:avLst/>
                <a:gdLst>
                  <a:gd name="textAreaLeft" fmla="*/ 0 w 390240"/>
                  <a:gd name="textAreaRight" fmla="*/ 390600 w 390240"/>
                  <a:gd name="textAreaTop" fmla="*/ 0 h 1181880"/>
                  <a:gd name="textAreaBottom" fmla="*/ 1181880 h 1181880"/>
                </a:gdLst>
                <a:ahLst/>
                <a:rect l="textAreaLeft" t="textAreaTop" r="textAreaRight" b="textAreaBottom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Freeform 129"/>
              <p:cNvSpPr/>
              <p:nvPr/>
            </p:nvSpPr>
            <p:spPr>
              <a:xfrm flipH="1">
                <a:off x="6555240" y="1283760"/>
                <a:ext cx="557280" cy="782640"/>
              </a:xfrm>
              <a:custGeom>
                <a:avLst/>
                <a:gdLst>
                  <a:gd name="textAreaLeft" fmla="*/ 360 w 557280"/>
                  <a:gd name="textAreaRight" fmla="*/ 558000 w 557280"/>
                  <a:gd name="textAreaTop" fmla="*/ 0 h 782640"/>
                  <a:gd name="textAreaBottom" fmla="*/ 783000 h 78264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Freeform 130"/>
              <p:cNvSpPr/>
              <p:nvPr/>
            </p:nvSpPr>
            <p:spPr>
              <a:xfrm flipH="1">
                <a:off x="6816960" y="457920"/>
                <a:ext cx="357120" cy="781560"/>
              </a:xfrm>
              <a:custGeom>
                <a:avLst/>
                <a:gdLst>
                  <a:gd name="textAreaLeft" fmla="*/ 0 w 357120"/>
                  <a:gd name="textAreaRight" fmla="*/ 357120 w 357120"/>
                  <a:gd name="textAreaTop" fmla="*/ 0 h 781560"/>
                  <a:gd name="textAreaBottom" fmla="*/ 781920 h 7815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>
                  <a:gd name="textAreaLeft" fmla="*/ 360 w 214560"/>
                  <a:gd name="textAreaRight" fmla="*/ 215280 w 214560"/>
                  <a:gd name="textAreaTop" fmla="*/ 0 h 781560"/>
                  <a:gd name="textAreaBottom" fmla="*/ 781920 h 7815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>
                  <a:gd name="textAreaLeft" fmla="*/ 0 w 516960"/>
                  <a:gd name="textAreaRight" fmla="*/ 517320 w 516960"/>
                  <a:gd name="textAreaTop" fmla="*/ 0 h 821880"/>
                  <a:gd name="textAreaBottom" fmla="*/ 822240 h 8218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Freeform 133"/>
              <p:cNvSpPr/>
              <p:nvPr/>
            </p:nvSpPr>
            <p:spPr>
              <a:xfrm>
                <a:off x="8294400" y="753840"/>
                <a:ext cx="777600" cy="546840"/>
              </a:xfrm>
              <a:custGeom>
                <a:avLst/>
                <a:gdLst>
                  <a:gd name="textAreaLeft" fmla="*/ 0 w 777600"/>
                  <a:gd name="textAreaRight" fmla="*/ 777960 w 777600"/>
                  <a:gd name="textAreaTop" fmla="*/ 0 h 546840"/>
                  <a:gd name="textAreaBottom" fmla="*/ 547200 h 54684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Freeform 134"/>
              <p:cNvSpPr/>
              <p:nvPr/>
            </p:nvSpPr>
            <p:spPr>
              <a:xfrm>
                <a:off x="8323200" y="172440"/>
                <a:ext cx="340200" cy="734040"/>
              </a:xfrm>
              <a:custGeom>
                <a:avLst/>
                <a:gdLst>
                  <a:gd name="textAreaLeft" fmla="*/ 0 w 340200"/>
                  <a:gd name="textAreaRight" fmla="*/ 340560 w 340200"/>
                  <a:gd name="textAreaTop" fmla="*/ 0 h 734040"/>
                  <a:gd name="textAreaBottom" fmla="*/ 734400 h 73404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Freeform 135"/>
              <p:cNvSpPr/>
              <p:nvPr/>
            </p:nvSpPr>
            <p:spPr>
              <a:xfrm rot="20253000">
                <a:off x="7986960" y="783720"/>
                <a:ext cx="228960" cy="430560"/>
              </a:xfrm>
              <a:custGeom>
                <a:avLst/>
                <a:gdLst>
                  <a:gd name="textAreaLeft" fmla="*/ 0 w 228960"/>
                  <a:gd name="textAreaRight" fmla="*/ 229320 w 228960"/>
                  <a:gd name="textAreaTop" fmla="*/ 0 h 430560"/>
                  <a:gd name="textAreaBottom" fmla="*/ 430920 h 4305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Freeform 136"/>
              <p:cNvSpPr/>
              <p:nvPr/>
            </p:nvSpPr>
            <p:spPr>
              <a:xfrm flipH="1" rot="1347000">
                <a:off x="7177320" y="770760"/>
                <a:ext cx="224640" cy="432000"/>
              </a:xfrm>
              <a:custGeom>
                <a:avLst/>
                <a:gdLst>
                  <a:gd name="textAreaLeft" fmla="*/ 360 w 224640"/>
                  <a:gd name="textAreaRight" fmla="*/ 225360 w 224640"/>
                  <a:gd name="textAreaTop" fmla="*/ 0 h 432000"/>
                  <a:gd name="textAreaBottom" fmla="*/ 432360 h 4320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A9386-343E-4EE7-91C5-7C92B9492726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7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268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1655640"/>
                <a:gd name="textAreaBottom" fmla="*/ 1656000 h 1655640"/>
              </a:gdLst>
              <a:ahLst/>
              <a:rect l="textAreaLeft" t="textAreaTop" r="textAreaRight" b="textAreaBottom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9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270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>
                  <a:gd name="textAreaLeft" fmla="*/ 0 w 9141120"/>
                  <a:gd name="textAreaRight" fmla="*/ 9141480 w 91411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95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6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>
                    <a:gd name="textAreaLeft" fmla="*/ 0 w 66960"/>
                    <a:gd name="textAreaRight" fmla="*/ 67320 w 669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7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>
                    <a:gd name="textAreaLeft" fmla="*/ 0 w 246240"/>
                    <a:gd name="textAreaRight" fmla="*/ 246240 w 24624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8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>
                    <a:gd name="textAreaLeft" fmla="*/ 0 w 380880"/>
                    <a:gd name="textAreaRight" fmla="*/ 381240 w 38088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9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>
                    <a:gd name="textAreaLeft" fmla="*/ 0 w 560160"/>
                    <a:gd name="textAreaRight" fmla="*/ 560160 w 560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>
                    <a:gd name="textAreaLeft" fmla="*/ 0 w 714240"/>
                    <a:gd name="textAreaRight" fmla="*/ 714240 w 71424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1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>
                    <a:gd name="textAreaLeft" fmla="*/ 0 w 857160"/>
                    <a:gd name="textAreaRight" fmla="*/ 857520 w 857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>
                    <a:gd name="textAreaLeft" fmla="*/ 0 w 1019160"/>
                    <a:gd name="textAreaRight" fmla="*/ 1019520 w 1019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>
                    <a:gd name="textAreaLeft" fmla="*/ 0 w 1000080"/>
                    <a:gd name="textAreaRight" fmla="*/ 1000440 w 1000080"/>
                    <a:gd name="textAreaTop" fmla="*/ 0 h 1487520"/>
                    <a:gd name="textAreaBottom" fmla="*/ 1487880 h 1487520"/>
                  </a:gdLst>
                  <a:ahLst/>
                  <a:rect l="textAreaLeft" t="textAreaTop" r="textAreaRight" b="textAreaBottom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4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>
                    <a:gd name="textAreaLeft" fmla="*/ 0 w 246240"/>
                    <a:gd name="textAreaRight" fmla="*/ 246240 w 24624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>
                    <a:gd name="textAreaLeft" fmla="*/ 0 w 380880"/>
                    <a:gd name="textAreaRight" fmla="*/ 381240 w 38088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6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>
                    <a:gd name="textAreaLeft" fmla="*/ 0 w 569880"/>
                    <a:gd name="textAreaRight" fmla="*/ 570240 w 56988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7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>
                    <a:gd name="textAreaLeft" fmla="*/ 0 w 712800"/>
                    <a:gd name="textAreaRight" fmla="*/ 713160 w 71280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8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>
                    <a:gd name="textAreaLeft" fmla="*/ 0 w 858600"/>
                    <a:gd name="textAreaRight" fmla="*/ 858960 w 85860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9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>
                    <a:gd name="textAreaLeft" fmla="*/ 0 w 1019160"/>
                    <a:gd name="textAreaRight" fmla="*/ 1019520 w 1019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0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>
                    <a:gd name="textAreaLeft" fmla="*/ 0 w 1066680"/>
                    <a:gd name="textAreaRight" fmla="*/ 1067040 w 1066680"/>
                    <a:gd name="textAreaTop" fmla="*/ 0 h 1582560"/>
                    <a:gd name="textAreaBottom" fmla="*/ 1582920 h 1582560"/>
                  </a:gdLst>
                  <a:ahLst/>
                  <a:rect l="textAreaLeft" t="textAreaTop" r="textAreaRight" b="textAreaBottom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1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312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>
                    <a:gd name="textAreaLeft" fmla="*/ 0 w 485640"/>
                    <a:gd name="textAreaRight" fmla="*/ 486000 w 485640"/>
                    <a:gd name="textAreaTop" fmla="*/ 0 h 677880"/>
                    <a:gd name="textAreaBottom" fmla="*/ 678240 h 677880"/>
                  </a:gdLst>
                  <a:ahLst/>
                  <a:rect l="textAreaLeft" t="textAreaTop" r="textAreaRight" b="textAreaBottom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3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>
                    <a:gd name="textAreaLeft" fmla="*/ 0 w 552240"/>
                    <a:gd name="textAreaRight" fmla="*/ 552240 w 552240"/>
                    <a:gd name="textAreaTop" fmla="*/ 0 h 772920"/>
                    <a:gd name="textAreaBottom" fmla="*/ 773280 h 772920"/>
                  </a:gdLst>
                  <a:ahLst/>
                  <a:rect l="textAreaLeft" t="textAreaTop" r="textAreaRight" b="textAreaBottom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4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315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>
                    <a:gd name="textAreaLeft" fmla="*/ 0 w 66960"/>
                    <a:gd name="textAreaRight" fmla="*/ 67320 w 6696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6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>
                    <a:gd name="textAreaLeft" fmla="*/ 0 w 636480"/>
                    <a:gd name="textAreaRight" fmla="*/ 636840 w 63648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7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>
                    <a:gd name="textAreaLeft" fmla="*/ 0 w 1074600"/>
                    <a:gd name="textAreaRight" fmla="*/ 1074960 w 107460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8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>
                    <a:gd name="textAreaLeft" fmla="*/ 0 w 1636560"/>
                    <a:gd name="textAreaRight" fmla="*/ 1636920 w 163656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9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>
                    <a:gd name="textAreaLeft" fmla="*/ 0 w 2094120"/>
                    <a:gd name="textAreaRight" fmla="*/ 2094120 w 209412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0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>
                    <a:gd name="textAreaLeft" fmla="*/ 0 w 638280"/>
                    <a:gd name="textAreaRight" fmla="*/ 638280 w 63828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1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>
                    <a:gd name="textAreaLeft" fmla="*/ 0 w 1074600"/>
                    <a:gd name="textAreaRight" fmla="*/ 1074960 w 107460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2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>
                    <a:gd name="textAreaLeft" fmla="*/ 0 w 1644480"/>
                    <a:gd name="textAreaRight" fmla="*/ 1644840 w 164448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3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>
                    <a:gd name="textAreaLeft" fmla="*/ 0 w 2106720"/>
                    <a:gd name="textAreaRight" fmla="*/ 2107080 w 210672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24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>
                  <a:gd name="textAreaLeft" fmla="*/ 0 w 1990800"/>
                  <a:gd name="textAreaRight" fmla="*/ 1991160 w 1990800"/>
                  <a:gd name="textAreaTop" fmla="*/ 0 h 4178160"/>
                  <a:gd name="textAreaBottom" fmla="*/ 4178160 h 4178160"/>
                </a:gdLst>
                <a:ahLst/>
                <a:rect l="textAreaLeft" t="textAreaTop" r="textAreaRight" b="textAreaBottom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>
                  <a:gd name="textAreaLeft" fmla="*/ 0 w 1504800"/>
                  <a:gd name="textAreaRight" fmla="*/ 1505160 w 1504800"/>
                  <a:gd name="textAreaTop" fmla="*/ 0 h 2660400"/>
                  <a:gd name="textAreaBottom" fmla="*/ 2660760 h 2660400"/>
                </a:gdLst>
                <a:ahLst/>
                <a:rect l="textAreaLeft" t="textAreaTop" r="textAreaRight" b="textAreaBottom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>
                  <a:gd name="textAreaLeft" fmla="*/ 0 w 998640"/>
                  <a:gd name="textAreaRight" fmla="*/ 999000 w 998640"/>
                  <a:gd name="textAreaTop" fmla="*/ 0 h 1487520"/>
                  <a:gd name="textAreaBottom" fmla="*/ 1487880 h 1487520"/>
                </a:gdLst>
                <a:ahLst/>
                <a:rect l="textAreaLeft" t="textAreaTop" r="textAreaRight" b="textAreaBottom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677880"/>
                  <a:gd name="textAreaBottom" fmla="*/ 677880 h 677880"/>
                </a:gdLst>
                <a:ahLst/>
                <a:rect l="textAreaLeft" t="textAreaTop" r="textAreaRight" b="textAreaBottom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>
                  <a:gd name="textAreaLeft" fmla="*/ 0 w 2027160"/>
                  <a:gd name="textAreaRight" fmla="*/ 2027520 w 2027160"/>
                  <a:gd name="textAreaTop" fmla="*/ 0 h 4263840"/>
                  <a:gd name="textAreaBottom" fmla="*/ 4264200 h 4263840"/>
                </a:gdLst>
                <a:ahLst/>
                <a:rect l="textAreaLeft" t="textAreaTop" r="textAreaRight" b="textAreaBottom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>
                  <a:gd name="textAreaLeft" fmla="*/ 0 w 1568520"/>
                  <a:gd name="textAreaRight" fmla="*/ 1568880 w 1568520"/>
                  <a:gd name="textAreaTop" fmla="*/ 0 h 2746440"/>
                  <a:gd name="textAreaBottom" fmla="*/ 2746800 h 2746440"/>
                </a:gdLst>
                <a:ahLst/>
                <a:rect l="textAreaLeft" t="textAreaTop" r="textAreaRight" b="textAreaBottom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>
                  <a:gd name="textAreaLeft" fmla="*/ 0 w 1063440"/>
                  <a:gd name="textAreaRight" fmla="*/ 1063800 w 1063440"/>
                  <a:gd name="textAreaTop" fmla="*/ 0 h 1582560"/>
                  <a:gd name="textAreaBottom" fmla="*/ 1582920 h 1582560"/>
                </a:gdLst>
                <a:ahLst/>
                <a:rect l="textAreaLeft" t="textAreaTop" r="textAreaRight" b="textAreaBottom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>
                  <a:gd name="textAreaLeft" fmla="*/ 0 w 549360"/>
                  <a:gd name="textAreaRight" fmla="*/ 549720 w 549360"/>
                  <a:gd name="textAreaTop" fmla="*/ 0 h 772920"/>
                  <a:gd name="textAreaBottom" fmla="*/ 773280 h 772920"/>
                </a:gdLst>
                <a:ahLst/>
                <a:rect l="textAreaLeft" t="textAreaTop" r="textAreaRight" b="textAreaBottom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dt" idx="10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 type="ftr" idx="11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53702-874F-490C-AD38-FF0F4A106EE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15AF5-F2DE-46D8-8BD6-B03D4A1ED3B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38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3EFC7-83B9-49F3-BAAC-891A370151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8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489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90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 type="dt" idx="19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 type="sldNum" idx="21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6AC47-6E71-4D08-BCCC-524691B4745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22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23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24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5C7C3-8953-4785-9E18-892C70EAC64D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0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541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0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551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552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3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4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55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58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559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0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1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2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3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4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5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6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567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568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0" name="Group 40"/>
          <p:cNvGrpSpPr/>
          <p:nvPr/>
        </p:nvGrpSpPr>
        <p:grpSpPr>
          <a:xfrm>
            <a:off x="7171200" y="-86760"/>
            <a:ext cx="2427840" cy="2247840"/>
            <a:chOff x="7171200" y="-86760"/>
            <a:chExt cx="2427840" cy="2247840"/>
          </a:xfrm>
        </p:grpSpPr>
        <p:grpSp>
          <p:nvGrpSpPr>
            <p:cNvPr id="571" name="Group 41"/>
            <p:cNvGrpSpPr/>
            <p:nvPr/>
          </p:nvGrpSpPr>
          <p:grpSpPr>
            <a:xfrm>
              <a:off x="7171200" y="-86760"/>
              <a:ext cx="2427840" cy="2247840"/>
              <a:chOff x="7171200" y="-86760"/>
              <a:chExt cx="2427840" cy="2247840"/>
            </a:xfrm>
          </p:grpSpPr>
          <p:sp>
            <p:nvSpPr>
              <p:cNvPr id="572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73" name="Group 43"/>
              <p:cNvGrpSpPr/>
              <p:nvPr/>
            </p:nvGrpSpPr>
            <p:grpSpPr>
              <a:xfrm>
                <a:off x="7171200" y="-86760"/>
                <a:ext cx="2427840" cy="2247840"/>
                <a:chOff x="7171200" y="-86760"/>
                <a:chExt cx="2427840" cy="2247840"/>
              </a:xfrm>
            </p:grpSpPr>
            <p:sp>
              <p:nvSpPr>
                <p:cNvPr id="574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>
                    <a:gd name="textAreaLeft" fmla="*/ 0 w 243000"/>
                    <a:gd name="textAreaRight" fmla="*/ 243360 w 24300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5" name="Freeform 45"/>
                <p:cNvSpPr/>
                <p:nvPr/>
              </p:nvSpPr>
              <p:spPr>
                <a:xfrm rot="18427200">
                  <a:off x="8015760" y="524520"/>
                  <a:ext cx="427320" cy="695520"/>
                </a:xfrm>
                <a:custGeom>
                  <a:avLst/>
                  <a:gdLst>
                    <a:gd name="textAreaLeft" fmla="*/ 0 w 427320"/>
                    <a:gd name="textAreaRight" fmla="*/ 427680 w 427320"/>
                    <a:gd name="textAreaTop" fmla="*/ 0 h 695520"/>
                    <a:gd name="textAreaBottom" fmla="*/ 695880 h 69552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6" name="Freeform 46"/>
                <p:cNvSpPr/>
                <p:nvPr/>
              </p:nvSpPr>
              <p:spPr>
                <a:xfrm rot="18427200">
                  <a:off x="7714080" y="286920"/>
                  <a:ext cx="802440" cy="1425240"/>
                </a:xfrm>
                <a:custGeom>
                  <a:avLst/>
                  <a:gdLst>
                    <a:gd name="textAreaLeft" fmla="*/ 0 w 802440"/>
                    <a:gd name="textAreaRight" fmla="*/ 802800 w 802440"/>
                    <a:gd name="textAreaTop" fmla="*/ 0 h 1425240"/>
                    <a:gd name="textAreaBottom" fmla="*/ 1425600 h 142524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7" name="Freeform 47"/>
                <p:cNvSpPr/>
                <p:nvPr/>
              </p:nvSpPr>
              <p:spPr>
                <a:xfrm rot="18427200">
                  <a:off x="7782840" y="-29160"/>
                  <a:ext cx="1204560" cy="2133360"/>
                </a:xfrm>
                <a:custGeom>
                  <a:avLst/>
                  <a:gdLst>
                    <a:gd name="textAreaLeft" fmla="*/ 0 w 1204560"/>
                    <a:gd name="textAreaRight" fmla="*/ 1204920 w 120456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8" name="Freeform 48"/>
                <p:cNvSpPr/>
                <p:nvPr/>
              </p:nvSpPr>
              <p:spPr>
                <a:xfrm rot="18427200">
                  <a:off x="8411040" y="1422360"/>
                  <a:ext cx="268560" cy="193680"/>
                </a:xfrm>
                <a:custGeom>
                  <a:avLst/>
                  <a:gdLst>
                    <a:gd name="textAreaLeft" fmla="*/ 0 w 268560"/>
                    <a:gd name="textAreaRight" fmla="*/ 268920 w 26856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9" name="Freeform 49"/>
                <p:cNvSpPr/>
                <p:nvPr/>
              </p:nvSpPr>
              <p:spPr>
                <a:xfrm rot="18427200">
                  <a:off x="8339400" y="1277640"/>
                  <a:ext cx="287280" cy="228600"/>
                </a:xfrm>
                <a:custGeom>
                  <a:avLst/>
                  <a:gdLst>
                    <a:gd name="textAreaLeft" fmla="*/ 0 w 287280"/>
                    <a:gd name="textAreaRight" fmla="*/ 287280 w 28728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0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>
                    <a:gd name="textAreaLeft" fmla="*/ 0 w 287280"/>
                    <a:gd name="textAreaRight" fmla="*/ 287640 w 28728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1" name="Freeform 51"/>
                <p:cNvSpPr/>
                <p:nvPr/>
              </p:nvSpPr>
              <p:spPr>
                <a:xfrm rot="18427200">
                  <a:off x="7857000" y="223200"/>
                  <a:ext cx="284400" cy="219240"/>
                </a:xfrm>
                <a:custGeom>
                  <a:avLst/>
                  <a:gdLst>
                    <a:gd name="textAreaLeft" fmla="*/ 0 w 284400"/>
                    <a:gd name="textAreaRight" fmla="*/ 284760 w 28440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82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>
              <a:gd name="textAreaLeft" fmla="*/ 0 w 7925040"/>
              <a:gd name="textAreaRight" fmla="*/ 7925400 w 79250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 type="dt" idx="25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 type="ftr" idx="26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AE35F-F685-42A7-8931-0F7B3AC51CFE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6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audio" Target="../media/bomb.wav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conjuguemos.com/spanish/index.html" TargetMode="External"/><Relationship Id="rId2" Type="http://schemas.openxmlformats.org/officeDocument/2006/relationships/hyperlink" Target="http://www.spaleon.com/sub_pres.php" TargetMode="External"/><Relationship Id="rId3" Type="http://schemas.openxmlformats.org/officeDocument/2006/relationships/hyperlink" Target="http://www.uvm.edu/%7Eivaleria/presente_de_subjuntivo.htm" TargetMode="External"/><Relationship Id="rId4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hyperlink" Target="http://www.spaleon.com/sub_pres.php?ids=3,6,9,11,18,24,53,42,46,50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Andy"/>
              </a:rPr>
              <a:t>SUBJUNTIVO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Andy"/>
              </a:rPr>
              <a:t>                  (presente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ndy"/>
              </a:rPr>
              <a:t>               </a:t>
            </a:r>
            <a:r>
              <a:rPr b="0" lang="es-ES_tradnl" sz="2800" spc="-1" strike="noStrike">
                <a:solidFill>
                  <a:srgbClr val="000000"/>
                </a:solidFill>
                <a:latin typeface="Andy"/>
              </a:rPr>
              <a:t>Cómo conjugarlo…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172" name="Picture 4" descr="Niko2"/>
          <p:cNvPicPr/>
          <p:nvPr/>
        </p:nvPicPr>
        <p:blipFill>
          <a:blip r:embed="rId2"/>
          <a:stretch/>
        </p:blipFill>
        <p:spPr>
          <a:xfrm>
            <a:off x="1332000" y="3141720"/>
            <a:ext cx="2212920" cy="1660320"/>
          </a:xfrm>
          <a:prstGeom prst="rect">
            <a:avLst/>
          </a:prstGeom>
          <a:ln w="9360">
            <a:solidFill>
              <a:srgbClr val="000000"/>
            </a:solidFill>
            <a:prstDash val="sysDot"/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3000" fill="hold"/>
                                        <p:tgtEl>
                                          <p:spTgt spid="11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7" dur="3000" fill="hold"/>
                                        <p:tgtEl>
                                          <p:spTgt spid="11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b6b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7543800" cy="692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ccecff"/>
                </a:solidFill>
                <a:latin typeface="Andy"/>
              </a:rPr>
              <a:t>VERBOS </a:t>
            </a:r>
            <a:r>
              <a:rPr b="0" lang="es-ES_tradnl" sz="3200" spc="-1" strike="noStrike">
                <a:solidFill>
                  <a:srgbClr val="cc0000"/>
                </a:solidFill>
                <a:latin typeface="Andy"/>
              </a:rPr>
              <a:t>AR</a:t>
            </a:r>
            <a:r>
              <a:rPr b="0" lang="es-ES_tradnl" sz="3200" spc="-1" strike="noStrike">
                <a:solidFill>
                  <a:srgbClr val="ccecff"/>
                </a:solidFill>
                <a:latin typeface="Andy"/>
              </a:rPr>
              <a:t> y </a:t>
            </a:r>
            <a:r>
              <a:rPr b="0" lang="es-ES_tradnl" sz="3200" spc="-1" strike="noStrike">
                <a:solidFill>
                  <a:srgbClr val="cc0000"/>
                </a:solidFill>
                <a:latin typeface="Andy"/>
              </a:rPr>
              <a:t>ER </a:t>
            </a:r>
            <a:r>
              <a:rPr b="0" lang="es-ES_tradnl" sz="3200" spc="-1" strike="noStrike">
                <a:solidFill>
                  <a:srgbClr val="ccecff"/>
                </a:solidFill>
                <a:latin typeface="Andy"/>
              </a:rPr>
              <a:t>CON CAMBIOS EN LA RAÍZ: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0" name="PlaceHolder 2"/>
          <p:cNvSpPr>
            <a:spLocks noGrp="1"/>
          </p:cNvSpPr>
          <p:nvPr>
            <p:ph/>
          </p:nvPr>
        </p:nvSpPr>
        <p:spPr>
          <a:xfrm>
            <a:off x="971640" y="1341000"/>
            <a:ext cx="7386480" cy="136836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Arial"/>
              </a:rPr>
              <a:t>Los verbos que en presente de indicativo cambian: la </a:t>
            </a:r>
            <a:r>
              <a:rPr b="1" i="1" lang="es-ES_tradnl" sz="20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s-ES_tradnl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eaeaea"/>
                </a:solidFill>
                <a:latin typeface="Arial"/>
              </a:rPr>
              <a:t>a</a:t>
            </a:r>
            <a:r>
              <a:rPr b="0" lang="es-ES_tradnl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es-ES_tradnl" sz="2000" spc="-1" strike="noStrike">
                <a:solidFill>
                  <a:srgbClr val="ffff00"/>
                </a:solidFill>
                <a:latin typeface="Arial"/>
              </a:rPr>
              <a:t>IE</a:t>
            </a:r>
            <a:r>
              <a:rPr b="1" i="1" lang="es-ES_tradnl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eaeaea"/>
                </a:solidFill>
                <a:latin typeface="Arial"/>
              </a:rPr>
              <a:t>(p</a:t>
            </a:r>
            <a:r>
              <a:rPr b="1" i="1" lang="es-ES_tradnl" sz="2000" spc="-1" strike="noStrike">
                <a:solidFill>
                  <a:srgbClr val="eaeaea"/>
                </a:solidFill>
                <a:latin typeface="Arial"/>
              </a:rPr>
              <a:t>e</a:t>
            </a:r>
            <a:r>
              <a:rPr b="0" lang="es-ES_tradnl" sz="2000" spc="-1" strike="noStrike">
                <a:solidFill>
                  <a:srgbClr val="eaeaea"/>
                </a:solidFill>
                <a:latin typeface="Arial"/>
              </a:rPr>
              <a:t>nsar, emp</a:t>
            </a:r>
            <a:r>
              <a:rPr b="1" i="1" lang="es-ES_tradnl" sz="2000" spc="-1" strike="noStrike">
                <a:solidFill>
                  <a:srgbClr val="eaeaea"/>
                </a:solidFill>
                <a:latin typeface="Arial"/>
              </a:rPr>
              <a:t>e</a:t>
            </a:r>
            <a:r>
              <a:rPr b="0" lang="es-ES_tradnl" sz="2000" spc="-1" strike="noStrike">
                <a:solidFill>
                  <a:srgbClr val="eaeaea"/>
                </a:solidFill>
                <a:latin typeface="Arial"/>
              </a:rPr>
              <a:t>zar, com</a:t>
            </a:r>
            <a:r>
              <a:rPr b="1" i="1" lang="es-ES_tradnl" sz="2000" spc="-1" strike="noStrike">
                <a:solidFill>
                  <a:srgbClr val="eaeaea"/>
                </a:solidFill>
                <a:latin typeface="Arial"/>
              </a:rPr>
              <a:t>e</a:t>
            </a:r>
            <a:r>
              <a:rPr b="0" lang="es-ES_tradnl" sz="2000" spc="-1" strike="noStrike">
                <a:solidFill>
                  <a:srgbClr val="eaeaea"/>
                </a:solidFill>
                <a:latin typeface="Arial"/>
              </a:rPr>
              <a:t>nzar, n</a:t>
            </a:r>
            <a:r>
              <a:rPr b="1" i="1" lang="es-ES_tradnl" sz="2000" spc="-1" strike="noStrike">
                <a:solidFill>
                  <a:srgbClr val="eaeaea"/>
                </a:solidFill>
                <a:latin typeface="Arial"/>
              </a:rPr>
              <a:t>e</a:t>
            </a:r>
            <a:r>
              <a:rPr b="0" lang="es-ES_tradnl" sz="2000" spc="-1" strike="noStrike">
                <a:solidFill>
                  <a:srgbClr val="eaeaea"/>
                </a:solidFill>
                <a:latin typeface="Arial"/>
              </a:rPr>
              <a:t>var, c</a:t>
            </a:r>
            <a:r>
              <a:rPr b="1" i="1" lang="es-ES_tradnl" sz="2000" spc="-1" strike="noStrike">
                <a:solidFill>
                  <a:srgbClr val="eaeaea"/>
                </a:solidFill>
                <a:latin typeface="Arial"/>
              </a:rPr>
              <a:t>e</a:t>
            </a:r>
            <a:r>
              <a:rPr b="0" lang="es-ES_tradnl" sz="2000" spc="-1" strike="noStrike">
                <a:solidFill>
                  <a:srgbClr val="eaeaea"/>
                </a:solidFill>
                <a:latin typeface="Arial"/>
              </a:rPr>
              <a:t>rrar, desp</a:t>
            </a:r>
            <a:r>
              <a:rPr b="1" i="1" lang="es-ES_tradnl" sz="2000" spc="-1" strike="noStrike">
                <a:solidFill>
                  <a:srgbClr val="eaeaea"/>
                </a:solidFill>
                <a:latin typeface="Arial"/>
              </a:rPr>
              <a:t>e</a:t>
            </a:r>
            <a:r>
              <a:rPr b="0" lang="es-ES_tradnl" sz="2000" spc="-1" strike="noStrike">
                <a:solidFill>
                  <a:srgbClr val="eaeaea"/>
                </a:solidFill>
                <a:latin typeface="Arial"/>
              </a:rPr>
              <a:t>rtar, n</a:t>
            </a:r>
            <a:r>
              <a:rPr b="1" i="1" lang="es-ES_tradnl" sz="2000" spc="-1" strike="noStrike">
                <a:solidFill>
                  <a:srgbClr val="eaeaea"/>
                </a:solidFill>
                <a:latin typeface="Arial"/>
              </a:rPr>
              <a:t>e</a:t>
            </a:r>
            <a:r>
              <a:rPr b="0" lang="es-ES_tradnl" sz="2000" spc="-1" strike="noStrike">
                <a:solidFill>
                  <a:srgbClr val="eaeaea"/>
                </a:solidFill>
                <a:latin typeface="Arial"/>
              </a:rPr>
              <a:t>gar, conf</a:t>
            </a:r>
            <a:r>
              <a:rPr b="1" i="1" lang="es-ES_tradnl" sz="2000" spc="-1" strike="noStrike">
                <a:solidFill>
                  <a:srgbClr val="eaeaea"/>
                </a:solidFill>
                <a:latin typeface="Arial"/>
              </a:rPr>
              <a:t>e</a:t>
            </a:r>
            <a:r>
              <a:rPr b="0" lang="es-ES_tradnl" sz="2000" spc="-1" strike="noStrike">
                <a:solidFill>
                  <a:srgbClr val="eaeaea"/>
                </a:solidFill>
                <a:latin typeface="Arial"/>
              </a:rPr>
              <a:t>sar, s</a:t>
            </a:r>
            <a:r>
              <a:rPr b="1" i="1" lang="es-ES_tradnl" sz="2000" spc="-1" strike="noStrike">
                <a:solidFill>
                  <a:srgbClr val="eaeaea"/>
                </a:solidFill>
                <a:latin typeface="Arial"/>
              </a:rPr>
              <a:t>e</a:t>
            </a:r>
            <a:r>
              <a:rPr b="0" lang="es-ES_tradnl" sz="2000" spc="-1" strike="noStrike">
                <a:solidFill>
                  <a:srgbClr val="eaeaea"/>
                </a:solidFill>
                <a:latin typeface="Arial"/>
              </a:rPr>
              <a:t>ntarse, perder, entender, encender, defender,querer,etc.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1" name="Text Box 4"/>
          <p:cNvSpPr/>
          <p:nvPr/>
        </p:nvSpPr>
        <p:spPr>
          <a:xfrm>
            <a:off x="2627280" y="2781360"/>
            <a:ext cx="446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N AMBOS TIEMPOS CAMBIAN LA RAÍZ EN TODAS LAS CONJUGACIONES </a:t>
            </a:r>
            <a:r>
              <a:rPr b="1" lang="es-ES_tradnl" sz="1800" spc="-1" strike="noStrike">
                <a:solidFill>
                  <a:srgbClr val="ffff00"/>
                </a:solidFill>
                <a:latin typeface="Arial"/>
              </a:rPr>
              <a:t>EXCEPTO LAS DE </a:t>
            </a:r>
            <a:r>
              <a:rPr b="1" i="1" lang="es-ES_tradnl" sz="1800" spc="-1" strike="noStrike">
                <a:solidFill>
                  <a:srgbClr val="ffff00"/>
                </a:solidFill>
                <a:latin typeface="Arial"/>
              </a:rPr>
              <a:t>NOSOTROS </a:t>
            </a:r>
            <a:r>
              <a:rPr b="1" lang="es-ES_tradnl" sz="1800" spc="-1" strike="noStrike">
                <a:solidFill>
                  <a:srgbClr val="ffff00"/>
                </a:solidFill>
                <a:latin typeface="Arial"/>
              </a:rPr>
              <a:t>Y </a:t>
            </a:r>
            <a:r>
              <a:rPr b="1" i="1" lang="es-ES_tradnl" sz="1800" spc="-1" strike="noStrike">
                <a:solidFill>
                  <a:srgbClr val="ffff00"/>
                </a:solidFill>
                <a:latin typeface="Arial"/>
              </a:rPr>
              <a:t>VOSOTR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Line 5"/>
          <p:cNvSpPr/>
          <p:nvPr/>
        </p:nvSpPr>
        <p:spPr>
          <a:xfrm>
            <a:off x="4572000" y="4005360"/>
            <a:ext cx="0" cy="576000"/>
          </a:xfrm>
          <a:prstGeom prst="line">
            <a:avLst/>
          </a:prstGeom>
          <a:ln w="38160">
            <a:solidFill>
              <a:srgbClr val="eaeaea"/>
            </a:solidFill>
            <a:miter/>
            <a:headEnd len="med" type="diamond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Text Box 6"/>
          <p:cNvSpPr/>
          <p:nvPr/>
        </p:nvSpPr>
        <p:spPr>
          <a:xfrm>
            <a:off x="2916360" y="4581360"/>
            <a:ext cx="4824360" cy="1894320"/>
          </a:xfrm>
          <a:prstGeom prst="rect">
            <a:avLst/>
          </a:prstGeom>
          <a:solidFill>
            <a:srgbClr val="66669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00"/>
                </a:solidFill>
                <a:latin typeface="Andy"/>
              </a:rPr>
              <a:t>PRESENTE DE INDICATIVO:</a:t>
            </a:r>
            <a:r>
              <a:rPr b="0" lang="es-ES_tradnl" sz="1800" spc="-1" strike="noStrike">
                <a:solidFill>
                  <a:srgbClr val="000000"/>
                </a:solidFill>
                <a:latin typeface="Andy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ndy"/>
              </a:rPr>
              <a:t>YO P</a:t>
            </a:r>
            <a:r>
              <a:rPr b="1" i="1" lang="es-ES_tradnl" sz="1800" spc="-1" strike="noStrike">
                <a:solidFill>
                  <a:srgbClr val="ffff00"/>
                </a:solidFill>
                <a:latin typeface="Andy"/>
              </a:rPr>
              <a:t>IE</a:t>
            </a:r>
            <a:r>
              <a:rPr b="0" lang="es-ES_tradnl" sz="1800" spc="-1" strike="noStrike">
                <a:solidFill>
                  <a:srgbClr val="000000"/>
                </a:solidFill>
                <a:latin typeface="Andy"/>
              </a:rPr>
              <a:t>NSO, NOSOTROS P</a:t>
            </a:r>
            <a:r>
              <a:rPr b="1" i="1" lang="es-ES_tradnl" sz="1800" spc="-1" strike="noStrike">
                <a:solidFill>
                  <a:srgbClr val="ffff00"/>
                </a:solidFill>
                <a:latin typeface="Andy"/>
              </a:rPr>
              <a:t>E</a:t>
            </a:r>
            <a:r>
              <a:rPr b="0" lang="es-ES_tradnl" sz="1800" spc="-1" strike="noStrike">
                <a:solidFill>
                  <a:srgbClr val="000000"/>
                </a:solidFill>
                <a:latin typeface="Andy"/>
              </a:rPr>
              <a:t>NSAM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00"/>
                </a:solidFill>
                <a:latin typeface="Andy"/>
              </a:rPr>
              <a:t>PRESENTE DE SUBJUNTIV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ndy"/>
              </a:rPr>
              <a:t>QUE YO P</a:t>
            </a:r>
            <a:r>
              <a:rPr b="1" i="1" lang="es-ES_tradnl" sz="1800" spc="-1" strike="noStrike">
                <a:solidFill>
                  <a:srgbClr val="ffff00"/>
                </a:solidFill>
                <a:latin typeface="Andy"/>
              </a:rPr>
              <a:t>IE</a:t>
            </a:r>
            <a:r>
              <a:rPr b="0" lang="es-ES_tradnl" sz="1800" spc="-1" strike="noStrike">
                <a:solidFill>
                  <a:srgbClr val="000000"/>
                </a:solidFill>
                <a:latin typeface="Andy"/>
              </a:rPr>
              <a:t>NSE, QUE NOSOTROS P</a:t>
            </a:r>
            <a:r>
              <a:rPr b="1" i="1" lang="es-ES_tradnl" sz="1800" spc="-1" strike="noStrike">
                <a:solidFill>
                  <a:srgbClr val="ffff00"/>
                </a:solidFill>
                <a:latin typeface="Andy"/>
              </a:rPr>
              <a:t>E</a:t>
            </a:r>
            <a:r>
              <a:rPr b="0" lang="es-ES_tradnl" sz="1800" spc="-1" strike="noStrike">
                <a:solidFill>
                  <a:srgbClr val="000000"/>
                </a:solidFill>
                <a:latin typeface="Andy"/>
              </a:rPr>
              <a:t>NSEM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2000" fill="hold"/>
                                        <p:tgtEl>
                                          <p:spTgt spid="1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2000" fill="hold"/>
                                        <p:tgtEl>
                                          <p:spTgt spid="1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454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ecff"/>
                </a:solidFill>
                <a:latin typeface="Arial"/>
              </a:rPr>
              <a:t>Los verbos que cambian  E a I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0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Ejemplos: pedir, seguir, reír, servir, repetir, impedir, competir, despedirse, elegir, corregir, vestirse, medir, etc. (Todos terminan en </a:t>
            </a:r>
            <a:r>
              <a:rPr b="0" i="1" lang="es-ES_tradnl" sz="3200" spc="-1" strike="noStrike">
                <a:solidFill>
                  <a:srgbClr val="eaeaea"/>
                </a:solidFill>
                <a:latin typeface="Arial"/>
              </a:rPr>
              <a:t>ir</a:t>
            </a: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6" name="Text Box 5"/>
          <p:cNvSpPr/>
          <p:nvPr/>
        </p:nvSpPr>
        <p:spPr>
          <a:xfrm>
            <a:off x="900000" y="4365720"/>
            <a:ext cx="6985080" cy="188280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Conservan el cambio en TODAS las conjugacion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(QUE YO PIDA, QUE NOSOTROS PIDAMOS, QUE YO RÍA, QUE VOSOTROS RÍAIS, ETC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" dur="2000" fill="hold"/>
                                        <p:tgtEl>
                                          <p:spTgt spid="12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55" dur="2000" fill="hold"/>
                                        <p:tgtEl>
                                          <p:spTgt spid="12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1476360" y="2060280"/>
            <a:ext cx="5400720" cy="2087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entury Gothic"/>
              </a:rPr>
              <a:t>(ejemplos: contar, mostrar, rogar, volar, encontrar, probar, recomendar, recordar, acordarse, almorzar, costar, acostarse soñar, jugar, volver, mover, poder, soler, llover, doler, morder, resolver, etc.)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/>
          </p:nvPr>
        </p:nvSpPr>
        <p:spPr>
          <a:xfrm>
            <a:off x="1476360" y="549360"/>
            <a:ext cx="5400720" cy="172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33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entury Gothic"/>
              </a:rPr>
              <a:t>Los verbos que cambian O a UE, y que terminan en AR o en ER, cambian en todas las personas excepto NOSOTROS y VOSOTROS</a:t>
            </a:r>
            <a:r>
              <a:rPr b="0" lang="es-ES_tradnl" sz="2000" spc="-1" strike="noStrike">
                <a:solidFill>
                  <a:srgbClr val="ffcc00"/>
                </a:solidFill>
                <a:latin typeface="Century Gothic"/>
              </a:rPr>
              <a:t> 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19" name="Text Box 10"/>
          <p:cNvSpPr/>
          <p:nvPr/>
        </p:nvSpPr>
        <p:spPr>
          <a:xfrm>
            <a:off x="1476360" y="4149720"/>
            <a:ext cx="5400720" cy="120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entury Gothic"/>
              </a:rPr>
              <a:t>Que yo v</a:t>
            </a:r>
            <a:r>
              <a:rPr b="1" i="1" lang="es-ES_tradnl" sz="1800" spc="-1" strike="noStrike">
                <a:solidFill>
                  <a:srgbClr val="000000"/>
                </a:solidFill>
                <a:latin typeface="Century Gothic"/>
              </a:rPr>
              <a:t>ue</a:t>
            </a:r>
            <a:r>
              <a:rPr b="0" lang="es-ES_tradnl" sz="1800" spc="-1" strike="noStrike">
                <a:solidFill>
                  <a:srgbClr val="000000"/>
                </a:solidFill>
                <a:latin typeface="Century Gothic"/>
              </a:rPr>
              <a:t>lva, que tú v</a:t>
            </a:r>
            <a:r>
              <a:rPr b="1" i="1" lang="es-ES_tradnl" sz="1800" spc="-1" strike="noStrike">
                <a:solidFill>
                  <a:srgbClr val="000000"/>
                </a:solidFill>
                <a:latin typeface="Century Gothic"/>
              </a:rPr>
              <a:t>ue</a:t>
            </a:r>
            <a:r>
              <a:rPr b="0" lang="es-ES_tradnl" sz="1800" spc="-1" strike="noStrike">
                <a:solidFill>
                  <a:srgbClr val="000000"/>
                </a:solidFill>
                <a:latin typeface="Century Gothic"/>
              </a:rPr>
              <a:t>lvas, que él v</a:t>
            </a:r>
            <a:r>
              <a:rPr b="1" i="1" lang="es-ES_tradnl" sz="1800" spc="-1" strike="noStrike">
                <a:solidFill>
                  <a:srgbClr val="000000"/>
                </a:solidFill>
                <a:latin typeface="Century Gothic"/>
              </a:rPr>
              <a:t>ue</a:t>
            </a:r>
            <a:r>
              <a:rPr b="0" lang="es-ES_tradnl" sz="1800" spc="-1" strike="noStrike">
                <a:solidFill>
                  <a:srgbClr val="000000"/>
                </a:solidFill>
                <a:latin typeface="Century Gothic"/>
              </a:rPr>
              <a:t>l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entury Gothic"/>
              </a:rPr>
              <a:t>Que nosotros v</a:t>
            </a:r>
            <a:r>
              <a:rPr b="1" i="1" lang="es-ES_tradnl" sz="1800" spc="-1" strike="noStrike">
                <a:solidFill>
                  <a:srgbClr val="000000"/>
                </a:solidFill>
                <a:latin typeface="Century Gothic"/>
              </a:rPr>
              <a:t>o</a:t>
            </a:r>
            <a:r>
              <a:rPr b="0" lang="es-ES_tradnl" sz="1800" spc="-1" strike="noStrike">
                <a:solidFill>
                  <a:srgbClr val="000000"/>
                </a:solidFill>
                <a:latin typeface="Century Gothic"/>
              </a:rPr>
              <a:t>lvamos, que vosotros v</a:t>
            </a:r>
            <a:r>
              <a:rPr b="1" i="1" lang="es-ES_tradnl" sz="1800" spc="-1" strike="noStrike">
                <a:solidFill>
                  <a:srgbClr val="000000"/>
                </a:solidFill>
                <a:latin typeface="Century Gothic"/>
              </a:rPr>
              <a:t>o</a:t>
            </a:r>
            <a:r>
              <a:rPr b="0" lang="es-ES_tradnl" sz="1800" spc="-1" strike="noStrike">
                <a:solidFill>
                  <a:srgbClr val="000000"/>
                </a:solidFill>
                <a:latin typeface="Century Gothic"/>
              </a:rPr>
              <a:t>lvái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entury Gothic"/>
              </a:rPr>
              <a:t>Que ellos v</a:t>
            </a:r>
            <a:r>
              <a:rPr b="1" i="1" lang="es-ES_tradnl" sz="1800" spc="-1" strike="noStrike">
                <a:solidFill>
                  <a:srgbClr val="000000"/>
                </a:solidFill>
                <a:latin typeface="Century Gothic"/>
              </a:rPr>
              <a:t>ue</a:t>
            </a:r>
            <a:r>
              <a:rPr b="0" lang="es-ES_tradnl" sz="1800" spc="-1" strike="noStrike">
                <a:solidFill>
                  <a:srgbClr val="000000"/>
                </a:solidFill>
                <a:latin typeface="Century Gothic"/>
              </a:rPr>
              <a:t>lvan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Line 11"/>
          <p:cNvSpPr/>
          <p:nvPr/>
        </p:nvSpPr>
        <p:spPr>
          <a:xfrm>
            <a:off x="2484360" y="1844640"/>
            <a:ext cx="0" cy="2305080"/>
          </a:xfrm>
          <a:prstGeom prst="line">
            <a:avLst/>
          </a:prstGeom>
          <a:ln w="2844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1" name="Picture 12" descr="j0119823[1]"/>
          <p:cNvPicPr/>
          <p:nvPr/>
        </p:nvPicPr>
        <p:blipFill>
          <a:blip r:embed="rId2"/>
          <a:stretch/>
        </p:blipFill>
        <p:spPr>
          <a:xfrm>
            <a:off x="0" y="3552840"/>
            <a:ext cx="1616040" cy="33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omb.wav"/>
                                        </p:tgtEl>
                                      </p:cMediaNode>
                                    </p:audio>
                                    <p:animMotion origin="layout" path="M 1.94444E-006 -2.89017E-007 C 0.0342 0.0326 0.12969 0.16162 0.20521 0.19514 C 0.28073 0.22867 0.38715 0.20162 0.45278 0.20162 C 0.51875 0.20162 0.55035 0.20578 0.60052 0.19514 C 0.65069 0.18451 0.71562 0.16532 0.75451 0.13827 C 0.7934 0.11121 0.81493 0.07584 0.83385 0.03237 C 0.85278 -0.0111 0.87083 -0.07191 0.8684 -0.12254 C 0.86597 -0.17318 0.82986 -0.24069 0.81962 -0.27191 E">
                                      <p:cBhvr>
                                        <p:cTn id="61" dur="2000" fill="hold"/>
                                        <p:tgtEl>
                                          <p:spTgt spid="12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94920" y="188640"/>
            <a:ext cx="8001000" cy="136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Los verbos que terminan en </a:t>
            </a:r>
            <a:r>
              <a:rPr b="1" i="1" lang="es-ES_tradnl" sz="4000" spc="-1" strike="noStrike">
                <a:solidFill>
                  <a:srgbClr val="000000"/>
                </a:solidFill>
                <a:latin typeface="Arial"/>
              </a:rPr>
              <a:t>IR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PlaceHolder 2"/>
          <p:cNvSpPr>
            <a:spLocks noGrp="1"/>
          </p:cNvSpPr>
          <p:nvPr>
            <p:ph/>
          </p:nvPr>
        </p:nvSpPr>
        <p:spPr>
          <a:xfrm>
            <a:off x="395280" y="3573360"/>
            <a:ext cx="8229600" cy="213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4141"/>
                </a:solidFill>
                <a:latin typeface="Arial"/>
              </a:rPr>
              <a:t>Tienen dos cambios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Yo, tú, él y ellos: la </a:t>
            </a: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cambia a </a:t>
            </a: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ie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(que yo pref</a:t>
            </a: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ie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a), y la </a:t>
            </a: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cambia a </a:t>
            </a: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ue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(que yo d</a:t>
            </a: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ue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m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Nosotros y vosotros: la </a:t>
            </a: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cambia a </a:t>
            </a: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(que nosotros pref</a:t>
            </a: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amos), y la </a:t>
            </a: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ambia a </a:t>
            </a: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(que nosotros m</a:t>
            </a: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am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4" name=""/>
          <p:cNvGraphicFramePr/>
          <p:nvPr/>
        </p:nvGraphicFramePr>
        <p:xfrm>
          <a:off x="3419640" y="1557360"/>
          <a:ext cx="3752640" cy="1952640"/>
        </p:xfrm>
        <a:graphic>
          <a:graphicData uri="http://schemas.openxmlformats.org/drawingml/2006/table">
            <a:tbl>
              <a:tblPr/>
              <a:tblGrid>
                <a:gridCol w="1877760"/>
                <a:gridCol w="1874880"/>
              </a:tblGrid>
              <a:tr h="57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 …I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… U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8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ferir, sentir, etc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rir, dormi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25" name="Picture 21" descr="HM00453_[1]"/>
          <p:cNvPicPr/>
          <p:nvPr/>
        </p:nvPicPr>
        <p:blipFill>
          <a:blip r:embed="rId1"/>
          <a:stretch/>
        </p:blipFill>
        <p:spPr>
          <a:xfrm>
            <a:off x="1908000" y="1197000"/>
            <a:ext cx="1213200" cy="1243080"/>
          </a:xfrm>
          <a:prstGeom prst="rect">
            <a:avLst/>
          </a:prstGeom>
          <a:ln w="0">
            <a:noFill/>
          </a:ln>
        </p:spPr>
      </p:pic>
      <p:sp>
        <p:nvSpPr>
          <p:cNvPr id="1226" name="Line 25"/>
          <p:cNvSpPr/>
          <p:nvPr/>
        </p:nvSpPr>
        <p:spPr>
          <a:xfrm>
            <a:off x="2411280" y="2565360"/>
            <a:ext cx="0" cy="863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0" fill="hold"/>
                                        <p:tgtEl>
                                          <p:spTgt spid="1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0" fill="hold"/>
                                        <p:tgtEl>
                                          <p:spTgt spid="1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0"/>
                                        <p:tgtEl>
                                          <p:spTgt spid="1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5000"/>
                            </p:stCondLst>
                            <p:childTnLst>
                              <p:par>
                                <p:cTn id="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3898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900" spc="-1" strike="noStrike">
                <a:solidFill>
                  <a:srgbClr val="330066"/>
                </a:solidFill>
                <a:latin typeface="Arial"/>
              </a:rPr>
              <a:t>RESUMIENDO: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2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solidFill>
            <a:srgbClr val="ffff99"/>
          </a:solidFill>
          <a:ln w="9360">
            <a:solidFill>
              <a:srgbClr val="ff4141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Verbos que terminan en AR y en ER tienen cambios similares en presente de indicativo y en presente de subjuntivo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Verbos que terminan en IR tienen un cambio extra para nosotros y vosotros (la </a:t>
            </a:r>
            <a:r>
              <a:rPr b="1" i="1" lang="es-ES_tradnl" sz="3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 cambia a </a:t>
            </a:r>
            <a:r>
              <a:rPr b="1" i="1" lang="es-ES_tradnl" sz="3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 y la </a:t>
            </a:r>
            <a:r>
              <a:rPr b="1" i="1" lang="es-ES_tradnl" sz="3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 cambia a </a:t>
            </a:r>
            <a:r>
              <a:rPr b="1" i="1" lang="es-ES_tradnl" sz="30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) además del cambio usual en las otras persona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9" dur="2000" fill="hold"/>
                                        <p:tgtEl>
                                          <p:spTgt spid="12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9999"/>
                                      </p:to>
                                    </p:animClr>
                                    <p:set>
                                      <p:cBhvr>
                                        <p:cTn id="80" dur="2000" fill="hold"/>
                                        <p:tgtEl>
                                          <p:spTgt spid="12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solidFill>
            <a:srgbClr val="000080"/>
          </a:solidFill>
          <a:ln w="9360">
            <a:solidFill>
              <a:srgbClr val="eaeaea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666699"/>
                </a:solidFill>
                <a:latin typeface="Arial"/>
              </a:rPr>
              <a:t>Verbos irregulares en presente de subjuntivo: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solidFill>
            <a:srgbClr val="ffff99"/>
          </a:solidFill>
          <a:ln w="9360">
            <a:solidFill>
              <a:srgbClr val="666699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54547a"/>
                </a:solidFill>
                <a:latin typeface="Arial"/>
              </a:rPr>
              <a:t>DAR (dé, des, dé, demos, deis, den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54547a"/>
                </a:solidFill>
                <a:latin typeface="Arial"/>
              </a:rPr>
              <a:t>ESTAR (esté, estés, esté, estemos, estéis, estén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54547a"/>
                </a:solidFill>
                <a:latin typeface="Arial"/>
              </a:rPr>
              <a:t>IR (vaya, vayas, vaya, vayamos, vayáis, vayan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54547a"/>
                </a:solidFill>
                <a:latin typeface="Arial"/>
              </a:rPr>
              <a:t>SABER (sepa, sepas, sepa, sepamos, sepáis, sepan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54547a"/>
                </a:solidFill>
                <a:latin typeface="Arial"/>
              </a:rPr>
              <a:t>SER (sea, seas, sea, seamos, seáis, sean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Text Box 4"/>
          <p:cNvSpPr/>
          <p:nvPr/>
        </p:nvSpPr>
        <p:spPr>
          <a:xfrm>
            <a:off x="2268360" y="765000"/>
            <a:ext cx="561672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ractica con los siguientes enlac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e4005c"/>
                </a:solidFill>
                <a:uFillTx/>
                <a:latin typeface="Arial"/>
                <a:hlinkClick r:id="rId1"/>
              </a:rPr>
              <a:t>http://conjuguemos.com/spanish/index.htm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# 13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e4005c"/>
                </a:solidFill>
                <a:uFillTx/>
                <a:latin typeface="Arial"/>
                <a:hlinkClick r:id="rId2"/>
              </a:rPr>
              <a:t>http://www.spaleon.com/sub_pres.ph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Basic verbs and irregular verb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e4005c"/>
                </a:solidFill>
                <a:uFillTx/>
                <a:latin typeface="Arial"/>
                <a:hlinkClick r:id="rId3"/>
              </a:rPr>
              <a:t>http://www.uvm.edu/%7Eivaleria/presente_de_subjuntivo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8280360" cy="23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476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cc0000"/>
                </a:solidFill>
                <a:latin typeface="Andy"/>
              </a:rPr>
              <a:t>  </a:t>
            </a:r>
            <a:r>
              <a:rPr b="0" lang="es-ES_tradnl" sz="3800" spc="-1" strike="noStrike">
                <a:solidFill>
                  <a:srgbClr val="cc0000"/>
                </a:solidFill>
                <a:latin typeface="Andy"/>
              </a:rPr>
              <a:t>I) Usamos la conjugación de </a:t>
            </a:r>
            <a:r>
              <a:rPr b="0" lang="es-ES_tradnl" sz="3800" spc="-1" strike="noStrike">
                <a:solidFill>
                  <a:srgbClr val="3b812f"/>
                </a:solidFill>
                <a:latin typeface="Andy"/>
              </a:rPr>
              <a:t>YO</a:t>
            </a:r>
            <a:r>
              <a:rPr b="0" lang="es-ES_tradnl" sz="3800" spc="-1" strike="noStrike">
                <a:solidFill>
                  <a:srgbClr val="cc0000"/>
                </a:solidFill>
                <a:latin typeface="Andy"/>
              </a:rPr>
              <a:t> en </a:t>
            </a:r>
            <a:r>
              <a:rPr b="0" lang="es-ES_tradnl" sz="3800" spc="-1" strike="noStrike">
                <a:solidFill>
                  <a:srgbClr val="3b812f"/>
                </a:solidFill>
                <a:latin typeface="Andy"/>
              </a:rPr>
              <a:t>PRESENTE DE INDICATIVO</a:t>
            </a:r>
            <a:r>
              <a:rPr b="0" lang="es-ES_tradnl" sz="3800" spc="-1" strike="noStrike">
                <a:solidFill>
                  <a:srgbClr val="cc0000"/>
                </a:solidFill>
                <a:latin typeface="Andy"/>
              </a:rPr>
              <a:t> </a:t>
            </a:r>
            <a:r>
              <a:rPr b="0" i="1" lang="es-ES_tradnl" sz="3800" spc="-1" strike="noStrike">
                <a:solidFill>
                  <a:srgbClr val="0000ff"/>
                </a:solidFill>
                <a:latin typeface="Andy"/>
              </a:rPr>
              <a:t>menos la </a:t>
            </a:r>
            <a:r>
              <a:rPr b="1" i="1" lang="es-ES_tradnl" sz="3800" spc="-1" strike="noStrike">
                <a:solidFill>
                  <a:srgbClr val="0000ff"/>
                </a:solidFill>
                <a:latin typeface="Andy"/>
              </a:rPr>
              <a:t>o </a:t>
            </a:r>
            <a:r>
              <a:rPr b="0" i="1" lang="es-ES_tradnl" sz="3800" spc="-1" strike="noStrike">
                <a:solidFill>
                  <a:srgbClr val="0000ff"/>
                </a:solidFill>
                <a:latin typeface="Andy"/>
              </a:rPr>
              <a:t>final de la conjugación</a:t>
            </a:r>
            <a:r>
              <a:rPr b="0" i="1" lang="es-ES_tradnl" sz="3800" spc="-1" strike="noStrike">
                <a:solidFill>
                  <a:srgbClr val="ffff00"/>
                </a:solidFill>
                <a:latin typeface="Andy"/>
              </a:rPr>
              <a:t> </a:t>
            </a:r>
            <a:r>
              <a:rPr b="0" lang="es-ES_tradnl" sz="3800" spc="-1" strike="noStrike">
                <a:solidFill>
                  <a:srgbClr val="cc0000"/>
                </a:solidFill>
                <a:latin typeface="Andy"/>
              </a:rPr>
              <a:t>como RAÍZ para todas las conjugaciones</a:t>
            </a:r>
            <a:br>
              <a:rPr sz="3800"/>
            </a:br>
            <a:br>
              <a:rPr sz="3800"/>
            </a:br>
            <a:r>
              <a:rPr b="0" lang="es-ES_tradnl" sz="3800" spc="-1" strike="noStrike">
                <a:solidFill>
                  <a:srgbClr val="cc0000"/>
                </a:solidFill>
                <a:latin typeface="Andy"/>
              </a:rPr>
              <a:t>jugar: </a:t>
            </a:r>
            <a:r>
              <a:rPr b="0" i="1" lang="es-ES_tradnl" sz="3800" spc="-1" strike="noStrike">
                <a:solidFill>
                  <a:srgbClr val="cc0000"/>
                </a:solidFill>
                <a:latin typeface="Andy"/>
              </a:rPr>
              <a:t>yo jueg   </a:t>
            </a:r>
            <a:r>
              <a:rPr b="0" lang="es-ES_tradnl" sz="3800" spc="-1" strike="noStrike">
                <a:solidFill>
                  <a:srgbClr val="cc0000"/>
                </a:solidFill>
                <a:latin typeface="Andy"/>
              </a:rPr>
              <a:t>....... JUEG</a:t>
            </a:r>
            <a:r>
              <a:rPr b="0" i="1" lang="es-ES_tradnl" sz="3800" spc="-1" strike="noStrike">
                <a:solidFill>
                  <a:srgbClr val="cc0000"/>
                </a:solidFill>
                <a:latin typeface="Andy"/>
              </a:rPr>
              <a:t>	</a:t>
            </a:r>
            <a:r>
              <a:rPr b="0" i="1" lang="es-ES_tradnl" sz="3800" spc="-1" strike="noStrike">
                <a:solidFill>
                  <a:srgbClr val="cc0000"/>
                </a:solidFill>
                <a:latin typeface="Andy"/>
              </a:rPr>
              <a:t>	</a:t>
            </a:r>
            <a:br>
              <a:rPr sz="3800"/>
            </a:br>
            <a:r>
              <a:rPr b="0" lang="es-ES_tradnl" sz="3800" spc="-1" strike="noStrike">
                <a:solidFill>
                  <a:srgbClr val="cc0000"/>
                </a:solidFill>
                <a:latin typeface="Andy"/>
              </a:rPr>
              <a:t>tener: </a:t>
            </a:r>
            <a:r>
              <a:rPr b="0" i="1" lang="es-ES_tradnl" sz="3800" spc="-1" strike="noStrike">
                <a:solidFill>
                  <a:srgbClr val="cc0000"/>
                </a:solidFill>
                <a:latin typeface="Andy"/>
              </a:rPr>
              <a:t>yo teng  ……… TENG</a:t>
            </a:r>
            <a:br>
              <a:rPr sz="3800"/>
            </a:br>
            <a:r>
              <a:rPr b="0" lang="es-ES_tradnl" sz="3800" spc="-1" strike="noStrike">
                <a:solidFill>
                  <a:srgbClr val="cc0000"/>
                </a:solidFill>
                <a:latin typeface="Andy"/>
              </a:rPr>
              <a:t>querer: </a:t>
            </a:r>
            <a:r>
              <a:rPr b="0" i="1" lang="es-ES_tradnl" sz="3800" spc="-1" strike="noStrike">
                <a:solidFill>
                  <a:srgbClr val="cc0000"/>
                </a:solidFill>
                <a:latin typeface="Andy"/>
              </a:rPr>
              <a:t>yo quier   ……  QUIER</a:t>
            </a:r>
            <a:br>
              <a:rPr sz="3800"/>
            </a:br>
            <a:r>
              <a:rPr b="0" lang="es-ES_tradnl" sz="3800" spc="-1" strike="noStrike">
                <a:solidFill>
                  <a:srgbClr val="cc0000"/>
                </a:solidFill>
                <a:latin typeface="Andy"/>
              </a:rPr>
              <a:t>	</a:t>
            </a:r>
            <a:r>
              <a:rPr b="0" lang="es-ES_tradnl" sz="3800" spc="-1" strike="noStrike">
                <a:solidFill>
                  <a:srgbClr val="cc0000"/>
                </a:solidFill>
                <a:latin typeface="Andy"/>
              </a:rPr>
              <a:t>	</a:t>
            </a:r>
            <a:r>
              <a:rPr b="0" lang="es-ES_tradnl" sz="3800" spc="-1" strike="noStrike">
                <a:solidFill>
                  <a:srgbClr val="cc0000"/>
                </a:solidFill>
                <a:latin typeface="Andy"/>
              </a:rPr>
              <a:t>etc.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74" name="Line 8"/>
          <p:cNvSpPr/>
          <p:nvPr/>
        </p:nvSpPr>
        <p:spPr>
          <a:xfrm flipH="1">
            <a:off x="6443280" y="2133720"/>
            <a:ext cx="792360" cy="1655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Text Box 9"/>
          <p:cNvSpPr/>
          <p:nvPr/>
        </p:nvSpPr>
        <p:spPr>
          <a:xfrm>
            <a:off x="4211640" y="4365720"/>
            <a:ext cx="43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Andy"/>
              </a:rPr>
              <a:t>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Text Box 11"/>
          <p:cNvSpPr/>
          <p:nvPr/>
        </p:nvSpPr>
        <p:spPr>
          <a:xfrm>
            <a:off x="4643280" y="4869000"/>
            <a:ext cx="43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Andy"/>
              </a:rPr>
              <a:t>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Text Box 12"/>
          <p:cNvSpPr/>
          <p:nvPr/>
        </p:nvSpPr>
        <p:spPr>
          <a:xfrm>
            <a:off x="4067280" y="3789360"/>
            <a:ext cx="50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Andy"/>
              </a:rPr>
              <a:t>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" dur="5000"/>
                                        <p:tgtEl>
                                          <p:spTgt spid="11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" dur="2500" autoRev="1" fill="hold"/>
                                        <p:tgtEl>
                                          <p:spTgt spid="117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4.21965E-006 L -0.00364 0.43121 E">
                                      <p:cBhvr>
                                        <p:cTn id="18" dur="2000" fill="hold"/>
                                        <p:tgtEl>
                                          <p:spTgt spid="11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-2.48555E-006 L -1.38889E-006 0.38821 E">
                                      <p:cBhvr>
                                        <p:cTn id="20" dur="2000" fill="hold"/>
                                        <p:tgtEl>
                                          <p:spTgt spid="11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295 E">
                                      <p:cBhvr>
                                        <p:cTn id="22" dur="2000" fill="hold"/>
                                        <p:tgtEl>
                                          <p:spTgt spid="11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6633"/>
                </a:solidFill>
                <a:latin typeface="Garamond"/>
              </a:rPr>
              <a:t>Añadimos las terminaciones (</a:t>
            </a:r>
            <a:r>
              <a:rPr b="0" i="1" lang="es-ES_tradnl" sz="3800" spc="-1" strike="noStrike">
                <a:solidFill>
                  <a:srgbClr val="006633"/>
                </a:solidFill>
                <a:latin typeface="Garamond"/>
              </a:rPr>
              <a:t>endings</a:t>
            </a:r>
            <a:r>
              <a:rPr b="0" lang="es-ES_tradnl" sz="3800" spc="-1" strike="noStrike">
                <a:solidFill>
                  <a:srgbClr val="006633"/>
                </a:solidFill>
                <a:latin typeface="Garamond"/>
              </a:rPr>
              <a:t>) a cada conjugación: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2411280" y="2133720"/>
            <a:ext cx="1656000" cy="25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EM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ÉI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5651640" y="2060640"/>
            <a:ext cx="1944720" cy="27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AM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ÁI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A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Text Box 6"/>
          <p:cNvSpPr/>
          <p:nvPr/>
        </p:nvSpPr>
        <p:spPr>
          <a:xfrm>
            <a:off x="2411280" y="155736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VERBOS 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Text Box 7"/>
          <p:cNvSpPr/>
          <p:nvPr/>
        </p:nvSpPr>
        <p:spPr>
          <a:xfrm>
            <a:off x="5580000" y="1484280"/>
            <a:ext cx="24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VERBOS 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ER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/ 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I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Line 8"/>
          <p:cNvSpPr/>
          <p:nvPr/>
        </p:nvSpPr>
        <p:spPr>
          <a:xfrm>
            <a:off x="5724360" y="5805360"/>
            <a:ext cx="26640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200" spc="-1" strike="noStrike">
                <a:solidFill>
                  <a:srgbClr val="000000"/>
                </a:solidFill>
                <a:latin typeface="Garamond"/>
              </a:rPr>
              <a:t>Ejemplo: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/>
          </p:nvPr>
        </p:nvSpPr>
        <p:spPr>
          <a:xfrm>
            <a:off x="324000" y="1599840"/>
            <a:ext cx="8362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AMAR 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 TENER: 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    DECIR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(Que yo)    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000" spc="-1" strike="noStrike">
                <a:solidFill>
                  <a:srgbClr val="ff4141"/>
                </a:solidFill>
                <a:latin typeface="Arial"/>
              </a:rPr>
              <a:t>am</a:t>
            </a:r>
            <a:r>
              <a:rPr b="1" i="1" lang="es-ES_tradnl" sz="3000" spc="-1" strike="noStrike">
                <a:solidFill>
                  <a:srgbClr val="000000"/>
                </a:solidFill>
                <a:latin typeface="Arial"/>
              </a:rPr>
              <a:t>e     </a:t>
            </a:r>
            <a:r>
              <a:rPr b="1" i="1" lang="es-ES_trad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_tradnl" sz="3000" spc="-1" strike="noStrike">
                <a:solidFill>
                  <a:srgbClr val="ff4141"/>
                </a:solidFill>
                <a:latin typeface="Arial"/>
              </a:rPr>
              <a:t>teng</a:t>
            </a:r>
            <a:r>
              <a:rPr b="1" i="1" lang="es-ES_tradnl" sz="3000" spc="-1" strike="noStrike">
                <a:solidFill>
                  <a:srgbClr val="000000"/>
                </a:solidFill>
                <a:latin typeface="Arial"/>
              </a:rPr>
              <a:t>a     </a:t>
            </a:r>
            <a:r>
              <a:rPr b="1" i="1" lang="es-ES_trad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3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s-ES_tradnl" sz="3000" spc="-1" strike="noStrike">
                <a:solidFill>
                  <a:srgbClr val="ff4141"/>
                </a:solidFill>
                <a:latin typeface="Arial"/>
              </a:rPr>
              <a:t>dig</a:t>
            </a:r>
            <a:r>
              <a:rPr b="1" i="1" lang="es-ES_tradnl" sz="3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(que tú)      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000" spc="-1" strike="noStrike">
                <a:solidFill>
                  <a:srgbClr val="ff4141"/>
                </a:solidFill>
                <a:latin typeface="Arial"/>
              </a:rPr>
              <a:t>am</a:t>
            </a:r>
            <a:r>
              <a:rPr b="1" i="1" lang="es-ES_tradnl" sz="3000" spc="-1" strike="noStrike">
                <a:solidFill>
                  <a:srgbClr val="000000"/>
                </a:solidFill>
                <a:latin typeface="Arial"/>
              </a:rPr>
              <a:t>es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_tradnl" sz="3000" spc="-1" strike="noStrike">
                <a:solidFill>
                  <a:srgbClr val="ff4141"/>
                </a:solidFill>
                <a:latin typeface="Arial"/>
              </a:rPr>
              <a:t>teng</a:t>
            </a:r>
            <a:r>
              <a:rPr b="1" i="1" lang="es-ES_tradnl" sz="3000" spc="-1" strike="noStrike">
                <a:solidFill>
                  <a:srgbClr val="000000"/>
                </a:solidFill>
                <a:latin typeface="Arial"/>
              </a:rPr>
              <a:t>as</a:t>
            </a:r>
            <a:r>
              <a:rPr b="1" i="1" lang="es-ES_trad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3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s-ES_tradnl" sz="3000" spc="-1" strike="noStrike">
                <a:solidFill>
                  <a:srgbClr val="ff4141"/>
                </a:solidFill>
                <a:latin typeface="Arial"/>
              </a:rPr>
              <a:t>dig</a:t>
            </a:r>
            <a:r>
              <a:rPr b="1" i="1" lang="es-ES_tradnl" sz="3000" spc="-1" strike="noStrike">
                <a:solidFill>
                  <a:srgbClr val="000000"/>
                </a:solidFill>
                <a:latin typeface="Arial"/>
              </a:rPr>
              <a:t>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(que él)       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000" spc="-1" strike="noStrike">
                <a:solidFill>
                  <a:srgbClr val="ff4141"/>
                </a:solidFill>
                <a:latin typeface="Arial"/>
              </a:rPr>
              <a:t>am</a:t>
            </a:r>
            <a:r>
              <a:rPr b="1" i="1" lang="es-ES_tradnl" sz="3000" spc="-1" strike="noStrike">
                <a:solidFill>
                  <a:srgbClr val="000000"/>
                </a:solidFill>
                <a:latin typeface="Arial"/>
              </a:rPr>
              <a:t>e              </a:t>
            </a:r>
            <a:r>
              <a:rPr b="0" lang="es-ES_tradnl" sz="3000" spc="-1" strike="noStrike">
                <a:solidFill>
                  <a:srgbClr val="ff4141"/>
                </a:solidFill>
                <a:latin typeface="Arial"/>
              </a:rPr>
              <a:t>teng</a:t>
            </a:r>
            <a:r>
              <a:rPr b="1" i="1" lang="es-ES_tradnl" sz="3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s-ES_tradnl" sz="3000" spc="-1" strike="noStrike">
                <a:solidFill>
                  <a:srgbClr val="ff4141"/>
                </a:solidFill>
                <a:latin typeface="Arial"/>
              </a:rPr>
              <a:t>dig</a:t>
            </a:r>
            <a:r>
              <a:rPr b="1" i="1" lang="es-ES_tradnl" sz="3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(que nosotros) </a:t>
            </a:r>
            <a:r>
              <a:rPr b="0" lang="es-ES_tradnl" sz="3000" spc="-1" strike="noStrike">
                <a:solidFill>
                  <a:srgbClr val="ff4141"/>
                </a:solidFill>
                <a:latin typeface="Arial"/>
              </a:rPr>
              <a:t>am</a:t>
            </a:r>
            <a:r>
              <a:rPr b="1" i="1" lang="es-ES_tradnl" sz="3000" spc="-1" strike="noStrike">
                <a:solidFill>
                  <a:srgbClr val="000000"/>
                </a:solidFill>
                <a:latin typeface="Arial"/>
              </a:rPr>
              <a:t>emos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ES_tradnl" sz="3000" spc="-1" strike="noStrike">
                <a:solidFill>
                  <a:srgbClr val="ff4141"/>
                </a:solidFill>
                <a:latin typeface="Arial"/>
              </a:rPr>
              <a:t>teng</a:t>
            </a:r>
            <a:r>
              <a:rPr b="1" i="1" lang="es-ES_tradnl" sz="3000" spc="-1" strike="noStrike">
                <a:solidFill>
                  <a:srgbClr val="000000"/>
                </a:solidFill>
                <a:latin typeface="Arial"/>
              </a:rPr>
              <a:t>amos   </a:t>
            </a:r>
            <a:r>
              <a:rPr b="0" lang="es-ES_tradnl" sz="3000" spc="-1" strike="noStrike">
                <a:solidFill>
                  <a:srgbClr val="ff4141"/>
                </a:solidFill>
                <a:latin typeface="Arial"/>
              </a:rPr>
              <a:t>dig</a:t>
            </a:r>
            <a:r>
              <a:rPr b="1" i="1" lang="es-ES_tradnl" sz="3000" spc="-1" strike="noStrike">
                <a:solidFill>
                  <a:srgbClr val="000000"/>
                </a:solidFill>
                <a:latin typeface="Arial"/>
              </a:rPr>
              <a:t>am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(que vosotros)   </a:t>
            </a:r>
            <a:r>
              <a:rPr b="0" lang="es-ES_tradnl" sz="3000" spc="-1" strike="noStrike">
                <a:solidFill>
                  <a:srgbClr val="ff4141"/>
                </a:solidFill>
                <a:latin typeface="Arial"/>
              </a:rPr>
              <a:t>am</a:t>
            </a:r>
            <a:r>
              <a:rPr b="1" i="1" lang="es-ES_tradnl" sz="3000" spc="-1" strike="noStrike">
                <a:solidFill>
                  <a:srgbClr val="000000"/>
                </a:solidFill>
                <a:latin typeface="Arial"/>
              </a:rPr>
              <a:t>éis 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s-ES_tradnl" sz="3000" spc="-1" strike="noStrike">
                <a:solidFill>
                  <a:srgbClr val="ff4141"/>
                </a:solidFill>
                <a:latin typeface="Arial"/>
              </a:rPr>
              <a:t>teng</a:t>
            </a:r>
            <a:r>
              <a:rPr b="1" i="1" lang="es-ES_tradnl" sz="3000" spc="-1" strike="noStrike">
                <a:solidFill>
                  <a:srgbClr val="000000"/>
                </a:solidFill>
                <a:latin typeface="Arial"/>
              </a:rPr>
              <a:t>áis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s-ES_tradnl" sz="3000" spc="-1" strike="noStrike">
                <a:solidFill>
                  <a:srgbClr val="ff4141"/>
                </a:solidFill>
                <a:latin typeface="Arial"/>
              </a:rPr>
              <a:t>dig</a:t>
            </a:r>
            <a:r>
              <a:rPr b="1" i="1" lang="es-ES_tradnl" sz="3000" spc="-1" strike="noStrike">
                <a:solidFill>
                  <a:srgbClr val="000000"/>
                </a:solidFill>
                <a:latin typeface="Arial"/>
              </a:rPr>
              <a:t>á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(que ellos)</a:t>
            </a:r>
            <a:r>
              <a:rPr b="1" i="1" lang="es-ES_tradnl" sz="3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s-ES_tradnl" sz="3000" spc="-1" strike="noStrike">
                <a:solidFill>
                  <a:srgbClr val="ff4141"/>
                </a:solidFill>
                <a:latin typeface="Arial"/>
              </a:rPr>
              <a:t>am</a:t>
            </a:r>
            <a:r>
              <a:rPr b="1" i="1" lang="es-ES_tradnl" sz="3000" spc="-1" strike="noStrike">
                <a:solidFill>
                  <a:srgbClr val="000000"/>
                </a:solidFill>
                <a:latin typeface="Arial"/>
              </a:rPr>
              <a:t>en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s-ES_tradnl" sz="3000" spc="-1" strike="noStrike">
                <a:solidFill>
                  <a:srgbClr val="ff4141"/>
                </a:solidFill>
                <a:latin typeface="Arial"/>
              </a:rPr>
              <a:t>teng</a:t>
            </a:r>
            <a:r>
              <a:rPr b="1" i="1" lang="es-ES_tradnl" sz="3000" spc="-1" strike="noStrike">
                <a:solidFill>
                  <a:srgbClr val="000000"/>
                </a:solidFill>
                <a:latin typeface="Arial"/>
              </a:rPr>
              <a:t>an         </a:t>
            </a:r>
            <a:r>
              <a:rPr b="0" lang="es-ES_tradnl" sz="3000" spc="-1" strike="noStrike">
                <a:solidFill>
                  <a:srgbClr val="ff4141"/>
                </a:solidFill>
                <a:latin typeface="Arial"/>
              </a:rPr>
              <a:t>dig</a:t>
            </a:r>
            <a:r>
              <a:rPr b="1" i="1" lang="es-ES_tradnl" sz="3000" spc="-1" strike="noStrike">
                <a:solidFill>
                  <a:srgbClr val="000000"/>
                </a:solidFill>
                <a:latin typeface="Arial"/>
              </a:rPr>
              <a:t>an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Text Box 4"/>
          <p:cNvSpPr/>
          <p:nvPr/>
        </p:nvSpPr>
        <p:spPr>
          <a:xfrm>
            <a:off x="539640" y="4508640"/>
            <a:ext cx="8352000" cy="169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Gothic"/>
              </a:rPr>
              <a:t>Practica las conjugaciones de verbos regulares con este enlace de la r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6600"/>
                </a:solidFill>
                <a:uFillTx/>
                <a:latin typeface="Century Gothic"/>
                <a:hlinkClick r:id="rId2"/>
              </a:rPr>
              <a:t>http://www.spaleon.com/sub_pres.php?ids=3,6,9,11,18,24,53,42,46,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6633"/>
                </a:solidFill>
                <a:latin typeface="Andy"/>
              </a:rPr>
              <a:t>Algunos verbos necesitan tener ciertos cambios ortográficos (de </a:t>
            </a:r>
            <a:r>
              <a:rPr b="1" i="1" lang="es-ES_tradnl" sz="3200" spc="-1" strike="noStrike">
                <a:solidFill>
                  <a:srgbClr val="006633"/>
                </a:solidFill>
                <a:latin typeface="Andy"/>
              </a:rPr>
              <a:t>spelling</a:t>
            </a:r>
            <a:r>
              <a:rPr b="1" lang="es-ES_tradnl" sz="3200" spc="-1" strike="noStrike">
                <a:solidFill>
                  <a:srgbClr val="006633"/>
                </a:solidFill>
                <a:latin typeface="Andy"/>
              </a:rPr>
              <a:t>):</a:t>
            </a:r>
            <a:br>
              <a:rPr sz="3200"/>
            </a:b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88" name="PlaceHolder 2"/>
          <p:cNvSpPr>
            <a:spLocks noGrp="1"/>
          </p:cNvSpPr>
          <p:nvPr>
            <p:ph/>
          </p:nvPr>
        </p:nvSpPr>
        <p:spPr>
          <a:xfrm>
            <a:off x="250560" y="1413000"/>
            <a:ext cx="8713800" cy="25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Narrow"/>
              </a:rPr>
              <a:t>Los verbos que terminan en </a:t>
            </a:r>
            <a:r>
              <a:rPr b="1" i="1" lang="es-ES_tradnl" sz="2800" spc="-1" strike="noStrike">
                <a:solidFill>
                  <a:srgbClr val="000000"/>
                </a:solidFill>
                <a:latin typeface="Arial Narrow"/>
              </a:rPr>
              <a:t>GAR </a:t>
            </a:r>
            <a:r>
              <a:rPr b="0" lang="es-ES_tradnl" sz="2800" spc="-1" strike="noStrike">
                <a:solidFill>
                  <a:srgbClr val="000000"/>
                </a:solidFill>
                <a:latin typeface="Arial Narrow"/>
              </a:rPr>
              <a:t>(jugar, negar, cargar, llegar, etc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Narrow"/>
              </a:rPr>
              <a:t>Los verbos que terminan en </a:t>
            </a:r>
            <a:r>
              <a:rPr b="1" i="1" lang="es-ES_tradnl" sz="2800" spc="-1" strike="noStrike">
                <a:solidFill>
                  <a:srgbClr val="000000"/>
                </a:solidFill>
                <a:latin typeface="Arial Narrow"/>
              </a:rPr>
              <a:t>CAR </a:t>
            </a:r>
            <a:r>
              <a:rPr b="0" lang="es-ES_tradnl" sz="2800" spc="-1" strike="noStrike">
                <a:solidFill>
                  <a:srgbClr val="000000"/>
                </a:solidFill>
                <a:latin typeface="Arial Narrow"/>
              </a:rPr>
              <a:t>(tocar, colocar, arrancar, etc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Narrow"/>
              </a:rPr>
              <a:t>Los verbos que terminan en </a:t>
            </a:r>
            <a:r>
              <a:rPr b="1" i="1" lang="es-ES_tradnl" sz="2800" spc="-1" strike="noStrike">
                <a:solidFill>
                  <a:srgbClr val="000000"/>
                </a:solidFill>
                <a:latin typeface="Arial Narrow"/>
              </a:rPr>
              <a:t>ZAR</a:t>
            </a:r>
            <a:r>
              <a:rPr b="0" lang="es-ES_tradnl" sz="2800" spc="-1" strike="noStrike">
                <a:solidFill>
                  <a:srgbClr val="000000"/>
                </a:solidFill>
                <a:latin typeface="Arial Narrow"/>
              </a:rPr>
              <a:t> (cazar, alcanzar, rezar, etc.)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Text Box 5"/>
          <p:cNvSpPr/>
          <p:nvPr/>
        </p:nvSpPr>
        <p:spPr>
          <a:xfrm>
            <a:off x="826920" y="4149720"/>
            <a:ext cx="756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b812f"/>
                </a:solidFill>
                <a:latin typeface="Arial Narrow"/>
              </a:rPr>
              <a:t>Para conservar el sonido original del verbo en infinitivo, hacemos los cambios fonéticos siguient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Line 6"/>
          <p:cNvSpPr/>
          <p:nvPr/>
        </p:nvSpPr>
        <p:spPr>
          <a:xfrm>
            <a:off x="5003640" y="5373720"/>
            <a:ext cx="2664000" cy="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1" name="Diagram 5"/>
          <p:cNvGrpSpPr/>
          <p:nvPr/>
        </p:nvGrpSpPr>
        <p:grpSpPr>
          <a:xfrm>
            <a:off x="1402200" y="1157040"/>
            <a:ext cx="5256720" cy="5246640"/>
            <a:chOff x="1402200" y="1157040"/>
            <a:chExt cx="5256720" cy="5246640"/>
          </a:xfrm>
        </p:grpSpPr>
        <p:sp>
          <p:nvSpPr>
            <p:cNvPr id="1192" name="_s1028"/>
            <p:cNvSpPr/>
            <p:nvPr/>
          </p:nvSpPr>
          <p:spPr>
            <a:xfrm>
              <a:off x="2101680" y="1864800"/>
              <a:ext cx="3857760" cy="3831120"/>
            </a:xfrm>
            <a:prstGeom prst="blockArc">
              <a:avLst>
                <a:gd name="adj1" fmla="val 14400000"/>
                <a:gd name="adj2" fmla="val 7200000"/>
                <a:gd name="adj3" fmla="val 16667"/>
              </a:avLst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3" name="_s1029"/>
            <p:cNvSpPr/>
            <p:nvPr/>
          </p:nvSpPr>
          <p:spPr>
            <a:xfrm rot="7200000">
              <a:off x="2115000" y="1851480"/>
              <a:ext cx="3831120" cy="3857760"/>
            </a:xfrm>
            <a:prstGeom prst="blockArc">
              <a:avLst>
                <a:gd name="adj1" fmla="val 14400000"/>
                <a:gd name="adj2" fmla="val 7200000"/>
                <a:gd name="adj3" fmla="val 16667"/>
              </a:avLst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4" name="_s1030"/>
            <p:cNvSpPr/>
            <p:nvPr/>
          </p:nvSpPr>
          <p:spPr>
            <a:xfrm rot="14400000">
              <a:off x="2114640" y="1851120"/>
              <a:ext cx="3831120" cy="3857760"/>
            </a:xfrm>
            <a:prstGeom prst="blockArc">
              <a:avLst>
                <a:gd name="adj1" fmla="val 14400000"/>
                <a:gd name="adj2" fmla="val 7200000"/>
                <a:gd name="adj3" fmla="val 16667"/>
              </a:avLst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5" name="_s1031"/>
            <p:cNvSpPr/>
            <p:nvPr/>
          </p:nvSpPr>
          <p:spPr>
            <a:xfrm>
              <a:off x="4833720" y="2397960"/>
              <a:ext cx="1176480" cy="116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Presente de subjuntivo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Que yo jue</a:t>
              </a:r>
              <a:r>
                <a:rPr b="0" lang="es-ES_tradnl" sz="1800" spc="-1" strike="noStrike">
                  <a:solidFill>
                    <a:srgbClr val="cc0000"/>
                  </a:solidFill>
                  <a:latin typeface="Arial Narrow"/>
                </a:rPr>
                <a:t>g</a:t>
              </a:r>
              <a:r>
                <a:rPr b="1" i="1" lang="es-ES_tradnl" sz="1800" spc="-1" strike="noStrike">
                  <a:solidFill>
                    <a:srgbClr val="cc0000"/>
                  </a:solidFill>
                  <a:latin typeface="Arial Narrow"/>
                </a:rPr>
                <a:t>e</a:t>
              </a:r>
              <a:r>
                <a:rPr b="1" i="1" lang="es-ES_tradnl" sz="1800" spc="-1" strike="noStrike">
                  <a:solidFill>
                    <a:srgbClr val="000000"/>
                  </a:solidFill>
                  <a:latin typeface="Arial Narrow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el sonido origin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cambiaría,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entonces…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6" name="_s1032"/>
            <p:cNvSpPr/>
            <p:nvPr/>
          </p:nvSpPr>
          <p:spPr>
            <a:xfrm>
              <a:off x="3444840" y="4792680"/>
              <a:ext cx="1176120" cy="11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Que yo jue</a:t>
              </a:r>
              <a:r>
                <a:rPr b="0" lang="es-ES_tradnl" sz="1800" spc="-1" strike="noStrike">
                  <a:solidFill>
                    <a:srgbClr val="cc0000"/>
                  </a:solidFill>
                  <a:latin typeface="Arial Narrow"/>
                </a:rPr>
                <a:t>g</a:t>
              </a:r>
              <a:r>
                <a:rPr b="1" i="1" lang="es-ES_tradnl" sz="1800" spc="-1" strike="noStrike">
                  <a:solidFill>
                    <a:srgbClr val="cc0000"/>
                  </a:solidFill>
                  <a:latin typeface="Arial Narrow"/>
                </a:rPr>
                <a:t>U</a:t>
              </a:r>
              <a:r>
                <a:rPr b="0" lang="es-ES_tradnl" sz="1800" spc="-1" strike="noStrike">
                  <a:solidFill>
                    <a:srgbClr val="cc0000"/>
                  </a:solidFill>
                  <a:latin typeface="Arial Narrow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el sonido origin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¡se conserva!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7" name="_s1033"/>
            <p:cNvSpPr/>
            <p:nvPr/>
          </p:nvSpPr>
          <p:spPr>
            <a:xfrm>
              <a:off x="2050920" y="2399400"/>
              <a:ext cx="1176480" cy="11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Yo jue</a:t>
              </a:r>
              <a:r>
                <a:rPr b="1" i="1" lang="es-ES_tradnl" sz="1800" spc="-1" strike="noStrike">
                  <a:solidFill>
                    <a:srgbClr val="cc0000"/>
                  </a:solidFill>
                  <a:latin typeface="Arial"/>
                </a:rPr>
                <a:t>g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(presente d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Indicativo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8" name="Line 13"/>
          <p:cNvSpPr/>
          <p:nvPr/>
        </p:nvSpPr>
        <p:spPr>
          <a:xfrm flipV="1">
            <a:off x="3492360" y="2349000"/>
            <a:ext cx="64800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Line 15"/>
          <p:cNvSpPr/>
          <p:nvPr/>
        </p:nvSpPr>
        <p:spPr>
          <a:xfrm flipH="1">
            <a:off x="5364000" y="4221000"/>
            <a:ext cx="14472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Text Box 18"/>
          <p:cNvSpPr/>
          <p:nvPr/>
        </p:nvSpPr>
        <p:spPr>
          <a:xfrm>
            <a:off x="971640" y="620640"/>
            <a:ext cx="2305080" cy="642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JEMPLO  CON JU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GAR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1" name="Picture 19" descr="j0310430[1]"/>
          <p:cNvPicPr/>
          <p:nvPr/>
        </p:nvPicPr>
        <p:blipFill>
          <a:blip r:embed="rId1"/>
          <a:stretch/>
        </p:blipFill>
        <p:spPr>
          <a:xfrm>
            <a:off x="3132000" y="2924280"/>
            <a:ext cx="1809720" cy="16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animMotion origin="layout" path="M -0.00086 -0.0067 C -0.05503 -0.01457 -0.14323 0.11145 -0.19062 0.10821 C -0.23802 0.10497 -0.27396 0.02613 -0.28489 -0.02589 C -0.29583 -0.07815 -0.27777 -0.15352 -0.25642 -0.20347 C -0.23507 -0.25341 -0.20607 -0.29387 -0.15729 -0.32509 C -0.1085 -0.3563 -0.02586 -0.39191 0.03629 -0.39075 C 0.09844 -0.38959 0.17118 -0.35121 0.21563 -0.31884 C 0.26007 -0.28647 0.28316 -0.24393 0.30295 -0.19607 C 0.32275 -0.14821 0.33768 -0.08347 0.33473 -0.03121 C 0.33177 0.02104 0.30521 0.07931 0.2849 0.11792 C 0.26459 0.15653 0.23768 0.19491 0.2125 0.20116 C 0.18733 0.2074 0.16962 0.19075 0.13403 0.15584 C 0.09844 0.12139 0.0533 0.00486 -0.00086 -0.0067 Z">
                                      <p:cBhvr>
                                        <p:cTn id="28" dur="5000" fill="hold"/>
                                        <p:tgtEl>
                                          <p:spTgt spid="12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Text Box 4"/>
          <p:cNvSpPr/>
          <p:nvPr/>
        </p:nvSpPr>
        <p:spPr>
          <a:xfrm>
            <a:off x="900000" y="2349360"/>
            <a:ext cx="7201080" cy="24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GAR: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gue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(que yo lle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gue,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que tu lle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gue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s, que él lle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gue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, que nosotros lle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gue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mos, que vosotros lle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gué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is, que ellos lle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gue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AR: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que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(que yo to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que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, que tú to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que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s, que él to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que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, que nosotros to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que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mos, que vosotros to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qué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is, que ellos to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que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ZAR: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e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(que yo alcan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e</a:t>
            </a: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que tú alcan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ce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s, que él alcan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ce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, que nosotros alcan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ce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mos, que vosotros alcan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cé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is, que ellos alcan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ce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3" name="Picture 6" descr="j0293454"/>
          <p:cNvPicPr/>
          <p:nvPr/>
        </p:nvPicPr>
        <p:blipFill>
          <a:blip r:embed="rId1"/>
          <a:stretch/>
        </p:blipFill>
        <p:spPr>
          <a:xfrm>
            <a:off x="3348000" y="836640"/>
            <a:ext cx="1760400" cy="10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animScale>
                                      <p:cBhvr>
                                        <p:cTn id="34" dur="2000" fill="hold"/>
                                        <p:tgtEl>
                                          <p:spTgt spid="120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Text Box 4"/>
          <p:cNvSpPr/>
          <p:nvPr/>
        </p:nvSpPr>
        <p:spPr>
          <a:xfrm>
            <a:off x="1187280" y="1197000"/>
            <a:ext cx="6913800" cy="673200"/>
          </a:xfrm>
          <a:prstGeom prst="rect">
            <a:avLst/>
          </a:prstGeom>
          <a:noFill/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ndy"/>
              </a:rPr>
              <a:t>¡ATENCIÓN ESPECIAL CON LOS VERBOS CUYA CONJUGACIÓN EN </a:t>
            </a:r>
            <a:r>
              <a:rPr b="1" i="1" lang="es-ES_tradnl" sz="2000" spc="-1" strike="noStrike">
                <a:solidFill>
                  <a:srgbClr val="000000"/>
                </a:solidFill>
                <a:latin typeface="Andy"/>
              </a:rPr>
              <a:t>YO</a:t>
            </a:r>
            <a:r>
              <a:rPr b="0" lang="es-ES_tradnl" sz="1800" spc="-1" strike="noStrike">
                <a:solidFill>
                  <a:srgbClr val="000000"/>
                </a:solidFill>
                <a:latin typeface="Andy"/>
              </a:rPr>
              <a:t> ES </a:t>
            </a:r>
            <a:r>
              <a:rPr b="1" i="1" lang="es-ES_tradnl" sz="1800" spc="-1" strike="noStrike">
                <a:solidFill>
                  <a:srgbClr val="000000"/>
                </a:solidFill>
                <a:latin typeface="Andy"/>
              </a:rPr>
              <a:t>IRREGULAR</a:t>
            </a:r>
            <a:r>
              <a:rPr b="0" lang="es-ES_tradnl" sz="1800" spc="-1" strike="noStrike">
                <a:solidFill>
                  <a:srgbClr val="000000"/>
                </a:solidFill>
                <a:latin typeface="Andy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Text Box 5"/>
          <p:cNvSpPr/>
          <p:nvPr/>
        </p:nvSpPr>
        <p:spPr>
          <a:xfrm>
            <a:off x="1835280" y="2276640"/>
            <a:ext cx="3024000" cy="45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CABER: quep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CAER: caig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CONOCER: conozc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DECIR: dig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HACER: hag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PONER: pong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SALIR: salg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TENER: teng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TRAER: traig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VALER: valg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Text Box 6"/>
          <p:cNvSpPr/>
          <p:nvPr/>
        </p:nvSpPr>
        <p:spPr>
          <a:xfrm>
            <a:off x="826920" y="5950080"/>
            <a:ext cx="7993080" cy="642600"/>
          </a:xfrm>
          <a:prstGeom prst="rect">
            <a:avLst/>
          </a:prstGeom>
          <a:solidFill>
            <a:srgbClr val="99cc99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ndy"/>
              </a:rPr>
              <a:t>Quep, caig, conozc, dig, hag, pong, etc. VAN A SER LA RAÌZ PARA EL SUBJUNTIV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Text Box 7"/>
          <p:cNvSpPr/>
          <p:nvPr/>
        </p:nvSpPr>
        <p:spPr>
          <a:xfrm>
            <a:off x="5148360" y="2637000"/>
            <a:ext cx="2592360" cy="11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todos los verbos que terminan en UCIR (traducir, conducir, etc.) que cambian an UZC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8" name="Picture 9" descr="attention"/>
          <p:cNvPicPr/>
          <p:nvPr/>
        </p:nvPicPr>
        <p:blipFill>
          <a:blip r:embed="rId1"/>
          <a:stretch/>
        </p:blipFill>
        <p:spPr>
          <a:xfrm>
            <a:off x="395280" y="836640"/>
            <a:ext cx="576360" cy="5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0" dur="5000" fill="hold"/>
                                        <p:tgtEl>
                                          <p:spTgt spid="120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8T23:05:29Z</dcterms:created>
  <dc:creator>irma valeriano</dc:creator>
  <dc:description/>
  <dc:language>en-US</dc:language>
  <cp:lastModifiedBy>Susana</cp:lastModifiedBy>
  <dcterms:modified xsi:type="dcterms:W3CDTF">2012-05-08T08:28:46Z</dcterms:modified>
  <cp:revision>37</cp:revision>
  <dc:subject/>
  <dc:title>SUBJUNTIVO (presente)</dc:title>
</cp:coreProperties>
</file>